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45D-58C5-4511-A066-2DA87E50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9E1-2ADE-4A5E-B5A9-09E2DED5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11C-226D-4E45-A6B9-57A61BD8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7F0-3D47-45C8-B28A-BCDB4726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F4B-DF45-4174-8D35-03B7AD9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C8E-49A7-4709-AAAB-1386548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5A5-C2C7-45D3-ADB6-13A3CF0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852-B8D3-4348-8421-4A5AECE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C5F-167E-4E57-AC40-4142855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421-AEF7-40A6-B913-9C31D44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57A-46AF-4706-85C2-578E747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A24-8A44-4540-AB24-3820EEC4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407-B125-425E-84CE-3BC87E2A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333360"/>
            <a:ext cx="5562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rebuchet MS"/>
              </a:rPr>
              <a:t>Jenny and Sharren's Sewage system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20640"/>
            <a:ext cx="936720" cy="1584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0200" y="2125800"/>
            <a:ext cx="642960" cy="1879560"/>
          </a:xfrm>
          <a:custGeom>
            <a:avLst/>
            <a:gdLst/>
            <a:ahLst/>
            <a:rect l="l" t="t" r="r" b="b"/>
            <a:pathLst>
              <a:path w="405" h="1184">
                <a:moveTo>
                  <a:pt x="158" y="21"/>
                </a:moveTo>
                <a:cubicBezTo>
                  <a:pt x="29" y="35"/>
                  <a:pt x="59" y="0"/>
                  <a:pt x="24" y="54"/>
                </a:cubicBezTo>
                <a:cubicBezTo>
                  <a:pt x="12" y="100"/>
                  <a:pt x="0" y="169"/>
                  <a:pt x="30" y="208"/>
                </a:cubicBezTo>
                <a:cubicBezTo>
                  <a:pt x="58" y="245"/>
                  <a:pt x="133" y="290"/>
                  <a:pt x="178" y="302"/>
                </a:cubicBezTo>
                <a:cubicBezTo>
                  <a:pt x="217" y="327"/>
                  <a:pt x="273" y="341"/>
                  <a:pt x="318" y="349"/>
                </a:cubicBezTo>
                <a:cubicBezTo>
                  <a:pt x="348" y="368"/>
                  <a:pt x="366" y="392"/>
                  <a:pt x="385" y="422"/>
                </a:cubicBezTo>
                <a:cubicBezTo>
                  <a:pt x="383" y="442"/>
                  <a:pt x="384" y="463"/>
                  <a:pt x="379" y="483"/>
                </a:cubicBezTo>
                <a:cubicBezTo>
                  <a:pt x="365" y="533"/>
                  <a:pt x="233" y="522"/>
                  <a:pt x="225" y="523"/>
                </a:cubicBezTo>
                <a:cubicBezTo>
                  <a:pt x="198" y="530"/>
                  <a:pt x="181" y="534"/>
                  <a:pt x="158" y="550"/>
                </a:cubicBezTo>
                <a:cubicBezTo>
                  <a:pt x="127" y="595"/>
                  <a:pt x="143" y="579"/>
                  <a:pt x="117" y="603"/>
                </a:cubicBezTo>
                <a:cubicBezTo>
                  <a:pt x="103" y="651"/>
                  <a:pt x="110" y="698"/>
                  <a:pt x="138" y="737"/>
                </a:cubicBezTo>
                <a:cubicBezTo>
                  <a:pt x="150" y="776"/>
                  <a:pt x="190" y="800"/>
                  <a:pt x="225" y="818"/>
                </a:cubicBezTo>
                <a:cubicBezTo>
                  <a:pt x="274" y="843"/>
                  <a:pt x="320" y="874"/>
                  <a:pt x="365" y="905"/>
                </a:cubicBezTo>
                <a:cubicBezTo>
                  <a:pt x="380" y="927"/>
                  <a:pt x="397" y="939"/>
                  <a:pt x="405" y="965"/>
                </a:cubicBezTo>
                <a:cubicBezTo>
                  <a:pt x="397" y="1026"/>
                  <a:pt x="384" y="1038"/>
                  <a:pt x="352" y="1086"/>
                </a:cubicBezTo>
                <a:cubicBezTo>
                  <a:pt x="339" y="1106"/>
                  <a:pt x="298" y="1184"/>
                  <a:pt x="298" y="11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76640"/>
            <a:ext cx="560160" cy="1562040"/>
          </a:xfrm>
          <a:custGeom>
            <a:avLst/>
            <a:gdLst/>
            <a:ahLst/>
            <a:rect l="l" t="t" r="r" b="b"/>
            <a:pathLst>
              <a:path w="353" h="984">
                <a:moveTo>
                  <a:pt x="70" y="0"/>
                </a:moveTo>
                <a:cubicBezTo>
                  <a:pt x="0" y="108"/>
                  <a:pt x="124" y="224"/>
                  <a:pt x="224" y="247"/>
                </a:cubicBezTo>
                <a:cubicBezTo>
                  <a:pt x="249" y="272"/>
                  <a:pt x="284" y="275"/>
                  <a:pt x="318" y="281"/>
                </a:cubicBezTo>
                <a:cubicBezTo>
                  <a:pt x="349" y="327"/>
                  <a:pt x="340" y="306"/>
                  <a:pt x="352" y="341"/>
                </a:cubicBezTo>
                <a:cubicBezTo>
                  <a:pt x="350" y="379"/>
                  <a:pt x="353" y="418"/>
                  <a:pt x="345" y="455"/>
                </a:cubicBezTo>
                <a:cubicBezTo>
                  <a:pt x="342" y="471"/>
                  <a:pt x="318" y="495"/>
                  <a:pt x="318" y="495"/>
                </a:cubicBezTo>
                <a:cubicBezTo>
                  <a:pt x="304" y="541"/>
                  <a:pt x="271" y="589"/>
                  <a:pt x="245" y="629"/>
                </a:cubicBezTo>
                <a:cubicBezTo>
                  <a:pt x="252" y="709"/>
                  <a:pt x="248" y="736"/>
                  <a:pt x="312" y="783"/>
                </a:cubicBezTo>
                <a:cubicBezTo>
                  <a:pt x="324" y="823"/>
                  <a:pt x="352" y="852"/>
                  <a:pt x="352" y="897"/>
                </a:cubicBezTo>
                <a:cubicBezTo>
                  <a:pt x="352" y="926"/>
                  <a:pt x="352" y="955"/>
                  <a:pt x="352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040" y="2444760"/>
            <a:ext cx="60120" cy="1208160"/>
          </a:xfrm>
          <a:custGeom>
            <a:avLst/>
            <a:gdLst/>
            <a:ahLst/>
            <a:rect l="l" t="t" r="r" b="b"/>
            <a:pathLst>
              <a:path w="38" h="761">
                <a:moveTo>
                  <a:pt x="5" y="0"/>
                </a:moveTo>
                <a:cubicBezTo>
                  <a:pt x="7" y="246"/>
                  <a:pt x="0" y="492"/>
                  <a:pt x="12" y="737"/>
                </a:cubicBezTo>
                <a:cubicBezTo>
                  <a:pt x="13" y="761"/>
                  <a:pt x="38" y="670"/>
                  <a:pt x="38" y="6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2602080"/>
            <a:ext cx="203040" cy="1576080"/>
          </a:xfrm>
          <a:custGeom>
            <a:avLst/>
            <a:gdLst/>
            <a:ahLst/>
            <a:rect l="l" t="t" r="r" b="b"/>
            <a:pathLst>
              <a:path w="128" h="993">
                <a:moveTo>
                  <a:pt x="0" y="22"/>
                </a:moveTo>
                <a:cubicBezTo>
                  <a:pt x="20" y="4"/>
                  <a:pt x="28" y="0"/>
                  <a:pt x="54" y="9"/>
                </a:cubicBezTo>
                <a:cubicBezTo>
                  <a:pt x="76" y="43"/>
                  <a:pt x="84" y="80"/>
                  <a:pt x="101" y="116"/>
                </a:cubicBezTo>
                <a:cubicBezTo>
                  <a:pt x="128" y="270"/>
                  <a:pt x="101" y="946"/>
                  <a:pt x="101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5400" y="2127240"/>
            <a:ext cx="191880" cy="1987560"/>
          </a:xfrm>
          <a:custGeom>
            <a:avLst/>
            <a:gdLst/>
            <a:ahLst/>
            <a:rect l="l" t="t" r="r" b="b"/>
            <a:pathLst>
              <a:path w="121" h="1252">
                <a:moveTo>
                  <a:pt x="0" y="0"/>
                </a:moveTo>
                <a:cubicBezTo>
                  <a:pt x="53" y="152"/>
                  <a:pt x="27" y="341"/>
                  <a:pt x="40" y="502"/>
                </a:cubicBezTo>
                <a:cubicBezTo>
                  <a:pt x="49" y="611"/>
                  <a:pt x="53" y="721"/>
                  <a:pt x="67" y="830"/>
                </a:cubicBezTo>
                <a:cubicBezTo>
                  <a:pt x="85" y="973"/>
                  <a:pt x="121" y="1108"/>
                  <a:pt x="121" y="1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3480" y="2349360"/>
            <a:ext cx="703080" cy="2291040"/>
          </a:xfrm>
          <a:custGeom>
            <a:avLst/>
            <a:gdLst/>
            <a:ahLst/>
            <a:rect l="l" t="t" r="r" b="b"/>
            <a:pathLst>
              <a:path w="443" h="1443">
                <a:moveTo>
                  <a:pt x="216" y="0"/>
                </a:moveTo>
                <a:cubicBezTo>
                  <a:pt x="208" y="31"/>
                  <a:pt x="204" y="49"/>
                  <a:pt x="176" y="67"/>
                </a:cubicBezTo>
                <a:cubicBezTo>
                  <a:pt x="164" y="102"/>
                  <a:pt x="132" y="125"/>
                  <a:pt x="109" y="154"/>
                </a:cubicBezTo>
                <a:cubicBezTo>
                  <a:pt x="55" y="224"/>
                  <a:pt x="117" y="159"/>
                  <a:pt x="68" y="208"/>
                </a:cubicBezTo>
                <a:cubicBezTo>
                  <a:pt x="55" y="248"/>
                  <a:pt x="43" y="279"/>
                  <a:pt x="21" y="315"/>
                </a:cubicBezTo>
                <a:cubicBezTo>
                  <a:pt x="0" y="456"/>
                  <a:pt x="6" y="641"/>
                  <a:pt x="95" y="764"/>
                </a:cubicBezTo>
                <a:cubicBezTo>
                  <a:pt x="106" y="780"/>
                  <a:pt x="118" y="795"/>
                  <a:pt x="129" y="811"/>
                </a:cubicBezTo>
                <a:cubicBezTo>
                  <a:pt x="143" y="833"/>
                  <a:pt x="154" y="857"/>
                  <a:pt x="169" y="878"/>
                </a:cubicBezTo>
                <a:cubicBezTo>
                  <a:pt x="272" y="1024"/>
                  <a:pt x="388" y="1147"/>
                  <a:pt x="443" y="1320"/>
                </a:cubicBezTo>
                <a:cubicBezTo>
                  <a:pt x="441" y="1351"/>
                  <a:pt x="442" y="1382"/>
                  <a:pt x="437" y="1413"/>
                </a:cubicBezTo>
                <a:cubicBezTo>
                  <a:pt x="432" y="1443"/>
                  <a:pt x="406" y="1443"/>
                  <a:pt x="390" y="14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2360520"/>
            <a:ext cx="226800" cy="2187720"/>
          </a:xfrm>
          <a:custGeom>
            <a:avLst/>
            <a:gdLst/>
            <a:ahLst/>
            <a:rect l="l" t="t" r="r" b="b"/>
            <a:pathLst>
              <a:path w="143" h="1378">
                <a:moveTo>
                  <a:pt x="143" y="0"/>
                </a:moveTo>
                <a:cubicBezTo>
                  <a:pt x="128" y="71"/>
                  <a:pt x="125" y="143"/>
                  <a:pt x="110" y="214"/>
                </a:cubicBezTo>
                <a:cubicBezTo>
                  <a:pt x="85" y="479"/>
                  <a:pt x="85" y="757"/>
                  <a:pt x="29" y="1018"/>
                </a:cubicBezTo>
                <a:cubicBezTo>
                  <a:pt x="25" y="1069"/>
                  <a:pt x="22" y="1121"/>
                  <a:pt x="16" y="1172"/>
                </a:cubicBezTo>
                <a:cubicBezTo>
                  <a:pt x="14" y="1192"/>
                  <a:pt x="11" y="1212"/>
                  <a:pt x="9" y="1232"/>
                </a:cubicBezTo>
                <a:cubicBezTo>
                  <a:pt x="0" y="1333"/>
                  <a:pt x="2" y="1378"/>
                  <a:pt x="2" y="12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36720" y="2455920"/>
            <a:ext cx="30240" cy="1382760"/>
          </a:xfrm>
          <a:custGeom>
            <a:avLst/>
            <a:gdLst/>
            <a:ahLst/>
            <a:rect l="l" t="t" r="r" b="b"/>
            <a:pathLst>
              <a:path w="19" h="871">
                <a:moveTo>
                  <a:pt x="19" y="0"/>
                </a:moveTo>
                <a:cubicBezTo>
                  <a:pt x="0" y="532"/>
                  <a:pt x="6" y="241"/>
                  <a:pt x="6" y="8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28760" y="2265480"/>
            <a:ext cx="500040" cy="1869840"/>
          </a:xfrm>
          <a:custGeom>
            <a:avLst/>
            <a:gdLst/>
            <a:ahLst/>
            <a:rect l="l" t="t" r="r" b="b"/>
            <a:pathLst>
              <a:path w="315" h="1178">
                <a:moveTo>
                  <a:pt x="0" y="0"/>
                </a:moveTo>
                <a:cubicBezTo>
                  <a:pt x="18" y="17"/>
                  <a:pt x="26" y="32"/>
                  <a:pt x="47" y="46"/>
                </a:cubicBezTo>
                <a:cubicBezTo>
                  <a:pt x="68" y="80"/>
                  <a:pt x="92" y="107"/>
                  <a:pt x="114" y="140"/>
                </a:cubicBezTo>
                <a:cubicBezTo>
                  <a:pt x="120" y="163"/>
                  <a:pt x="126" y="185"/>
                  <a:pt x="134" y="207"/>
                </a:cubicBezTo>
                <a:cubicBezTo>
                  <a:pt x="132" y="241"/>
                  <a:pt x="131" y="274"/>
                  <a:pt x="127" y="308"/>
                </a:cubicBezTo>
                <a:cubicBezTo>
                  <a:pt x="124" y="331"/>
                  <a:pt x="110" y="348"/>
                  <a:pt x="101" y="368"/>
                </a:cubicBezTo>
                <a:cubicBezTo>
                  <a:pt x="87" y="400"/>
                  <a:pt x="80" y="434"/>
                  <a:pt x="74" y="468"/>
                </a:cubicBezTo>
                <a:cubicBezTo>
                  <a:pt x="78" y="495"/>
                  <a:pt x="78" y="523"/>
                  <a:pt x="87" y="549"/>
                </a:cubicBezTo>
                <a:cubicBezTo>
                  <a:pt x="106" y="606"/>
                  <a:pt x="185" y="616"/>
                  <a:pt x="235" y="629"/>
                </a:cubicBezTo>
                <a:cubicBezTo>
                  <a:pt x="261" y="657"/>
                  <a:pt x="231" y="630"/>
                  <a:pt x="275" y="649"/>
                </a:cubicBezTo>
                <a:cubicBezTo>
                  <a:pt x="289" y="655"/>
                  <a:pt x="305" y="673"/>
                  <a:pt x="315" y="683"/>
                </a:cubicBezTo>
                <a:cubicBezTo>
                  <a:pt x="309" y="765"/>
                  <a:pt x="312" y="807"/>
                  <a:pt x="255" y="864"/>
                </a:cubicBezTo>
                <a:cubicBezTo>
                  <a:pt x="246" y="889"/>
                  <a:pt x="225" y="930"/>
                  <a:pt x="201" y="944"/>
                </a:cubicBezTo>
                <a:cubicBezTo>
                  <a:pt x="195" y="948"/>
                  <a:pt x="187" y="948"/>
                  <a:pt x="181" y="951"/>
                </a:cubicBezTo>
                <a:cubicBezTo>
                  <a:pt x="174" y="955"/>
                  <a:pt x="168" y="960"/>
                  <a:pt x="161" y="964"/>
                </a:cubicBezTo>
                <a:cubicBezTo>
                  <a:pt x="151" y="979"/>
                  <a:pt x="141" y="994"/>
                  <a:pt x="134" y="1011"/>
                </a:cubicBezTo>
                <a:cubicBezTo>
                  <a:pt x="124" y="1037"/>
                  <a:pt x="128" y="1052"/>
                  <a:pt x="107" y="1071"/>
                </a:cubicBezTo>
                <a:cubicBezTo>
                  <a:pt x="100" y="1094"/>
                  <a:pt x="101" y="1114"/>
                  <a:pt x="121" y="1132"/>
                </a:cubicBezTo>
                <a:cubicBezTo>
                  <a:pt x="133" y="1142"/>
                  <a:pt x="146" y="1153"/>
                  <a:pt x="161" y="1158"/>
                </a:cubicBezTo>
                <a:cubicBezTo>
                  <a:pt x="168" y="1160"/>
                  <a:pt x="176" y="1160"/>
                  <a:pt x="181" y="1165"/>
                </a:cubicBezTo>
                <a:cubicBezTo>
                  <a:pt x="184" y="1168"/>
                  <a:pt x="181" y="1174"/>
                  <a:pt x="181" y="11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276640"/>
            <a:ext cx="280800" cy="1812600"/>
          </a:xfrm>
          <a:custGeom>
            <a:avLst/>
            <a:gdLst/>
            <a:ahLst/>
            <a:rect l="l" t="t" r="r" b="b"/>
            <a:pathLst>
              <a:path w="177" h="1142">
                <a:moveTo>
                  <a:pt x="177" y="9"/>
                </a:moveTo>
                <a:cubicBezTo>
                  <a:pt x="59" y="17"/>
                  <a:pt x="102" y="0"/>
                  <a:pt x="57" y="69"/>
                </a:cubicBezTo>
                <a:cubicBezTo>
                  <a:pt x="46" y="110"/>
                  <a:pt x="27" y="147"/>
                  <a:pt x="17" y="189"/>
                </a:cubicBezTo>
                <a:cubicBezTo>
                  <a:pt x="19" y="239"/>
                  <a:pt x="0" y="321"/>
                  <a:pt x="43" y="364"/>
                </a:cubicBezTo>
                <a:cubicBezTo>
                  <a:pt x="65" y="386"/>
                  <a:pt x="99" y="400"/>
                  <a:pt x="124" y="417"/>
                </a:cubicBezTo>
                <a:cubicBezTo>
                  <a:pt x="142" y="429"/>
                  <a:pt x="171" y="464"/>
                  <a:pt x="171" y="464"/>
                </a:cubicBezTo>
                <a:cubicBezTo>
                  <a:pt x="169" y="498"/>
                  <a:pt x="170" y="532"/>
                  <a:pt x="164" y="565"/>
                </a:cubicBezTo>
                <a:cubicBezTo>
                  <a:pt x="160" y="588"/>
                  <a:pt x="104" y="598"/>
                  <a:pt x="104" y="598"/>
                </a:cubicBezTo>
                <a:cubicBezTo>
                  <a:pt x="76" y="616"/>
                  <a:pt x="61" y="640"/>
                  <a:pt x="50" y="672"/>
                </a:cubicBezTo>
                <a:cubicBezTo>
                  <a:pt x="52" y="710"/>
                  <a:pt x="51" y="748"/>
                  <a:pt x="57" y="786"/>
                </a:cubicBezTo>
                <a:cubicBezTo>
                  <a:pt x="59" y="801"/>
                  <a:pt x="76" y="809"/>
                  <a:pt x="84" y="819"/>
                </a:cubicBezTo>
                <a:cubicBezTo>
                  <a:pt x="102" y="841"/>
                  <a:pt x="122" y="863"/>
                  <a:pt x="137" y="886"/>
                </a:cubicBezTo>
                <a:cubicBezTo>
                  <a:pt x="145" y="915"/>
                  <a:pt x="154" y="944"/>
                  <a:pt x="164" y="973"/>
                </a:cubicBezTo>
                <a:cubicBezTo>
                  <a:pt x="158" y="1010"/>
                  <a:pt x="155" y="1022"/>
                  <a:pt x="130" y="1047"/>
                </a:cubicBezTo>
                <a:cubicBezTo>
                  <a:pt x="120" y="1081"/>
                  <a:pt x="132" y="1056"/>
                  <a:pt x="104" y="1080"/>
                </a:cubicBezTo>
                <a:cubicBezTo>
                  <a:pt x="92" y="1091"/>
                  <a:pt x="70" y="1114"/>
                  <a:pt x="70" y="1114"/>
                </a:cubicBezTo>
                <a:cubicBezTo>
                  <a:pt x="62" y="1142"/>
                  <a:pt x="57" y="1134"/>
                  <a:pt x="90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2349360"/>
            <a:ext cx="36036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97360"/>
            <a:ext cx="3635280" cy="15843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cket with a 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165720"/>
            <a:ext cx="358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950080"/>
            <a:ext cx="79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6021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950080"/>
            <a:ext cx="79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950080"/>
            <a:ext cx="648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0560" y="5805360"/>
            <a:ext cx="577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95008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6021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26920" y="609300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10920" y="6093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00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280" y="6021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50920" y="5950080"/>
            <a:ext cx="21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63640" y="5877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47280" y="6021360"/>
            <a:ext cx="28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332000" y="5950080"/>
            <a:ext cx="287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6021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42920" y="6021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99640" y="6021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5280" y="6021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3086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63086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6443640"/>
            <a:ext cx="347760" cy="355680"/>
          </a:xfrm>
          <a:custGeom>
            <a:avLst/>
            <a:gdLst/>
            <a:ahLst/>
            <a:rect l="l" t="t" r="r" b="b"/>
            <a:pathLst>
              <a:path w="219" h="224">
                <a:moveTo>
                  <a:pt x="38" y="0"/>
                </a:moveTo>
                <a:cubicBezTo>
                  <a:pt x="0" y="13"/>
                  <a:pt x="1" y="55"/>
                  <a:pt x="31" y="81"/>
                </a:cubicBezTo>
                <a:cubicBezTo>
                  <a:pt x="77" y="122"/>
                  <a:pt x="148" y="163"/>
                  <a:pt x="207" y="176"/>
                </a:cubicBezTo>
                <a:cubicBezTo>
                  <a:pt x="219" y="212"/>
                  <a:pt x="203" y="224"/>
                  <a:pt x="167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39680" y="6400800"/>
            <a:ext cx="358920" cy="484200"/>
          </a:xfrm>
          <a:custGeom>
            <a:avLst/>
            <a:gdLst/>
            <a:ahLst/>
            <a:rect l="l" t="t" r="r" b="b"/>
            <a:pathLst>
              <a:path w="226" h="305">
                <a:moveTo>
                  <a:pt x="16" y="0"/>
                </a:moveTo>
                <a:cubicBezTo>
                  <a:pt x="7" y="27"/>
                  <a:pt x="0" y="77"/>
                  <a:pt x="29" y="95"/>
                </a:cubicBezTo>
                <a:cubicBezTo>
                  <a:pt x="64" y="116"/>
                  <a:pt x="138" y="130"/>
                  <a:pt x="179" y="142"/>
                </a:cubicBezTo>
                <a:cubicBezTo>
                  <a:pt x="202" y="158"/>
                  <a:pt x="217" y="156"/>
                  <a:pt x="226" y="183"/>
                </a:cubicBezTo>
                <a:cubicBezTo>
                  <a:pt x="217" y="210"/>
                  <a:pt x="202" y="206"/>
                  <a:pt x="185" y="230"/>
                </a:cubicBezTo>
                <a:cubicBezTo>
                  <a:pt x="177" y="258"/>
                  <a:pt x="186" y="279"/>
                  <a:pt x="199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12920" y="6400800"/>
            <a:ext cx="223920" cy="484200"/>
          </a:xfrm>
          <a:custGeom>
            <a:avLst/>
            <a:gdLst/>
            <a:ahLst/>
            <a:rect l="l" t="t" r="r" b="b"/>
            <a:pathLst>
              <a:path w="141" h="305">
                <a:moveTo>
                  <a:pt x="0" y="0"/>
                </a:moveTo>
                <a:cubicBezTo>
                  <a:pt x="13" y="63"/>
                  <a:pt x="41" y="66"/>
                  <a:pt x="95" y="81"/>
                </a:cubicBezTo>
                <a:cubicBezTo>
                  <a:pt x="141" y="117"/>
                  <a:pt x="138" y="115"/>
                  <a:pt x="122" y="169"/>
                </a:cubicBezTo>
                <a:cubicBezTo>
                  <a:pt x="131" y="251"/>
                  <a:pt x="128" y="206"/>
                  <a:pt x="128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6432480"/>
            <a:ext cx="49320" cy="409680"/>
          </a:xfrm>
          <a:custGeom>
            <a:avLst/>
            <a:gdLst/>
            <a:ahLst/>
            <a:rect l="l" t="t" r="r" b="b"/>
            <a:pathLst>
              <a:path w="31" h="258">
                <a:moveTo>
                  <a:pt x="16" y="0"/>
                </a:moveTo>
                <a:cubicBezTo>
                  <a:pt x="0" y="47"/>
                  <a:pt x="27" y="101"/>
                  <a:pt x="29" y="149"/>
                </a:cubicBezTo>
                <a:cubicBezTo>
                  <a:pt x="31" y="185"/>
                  <a:pt x="29" y="222"/>
                  <a:pt x="29" y="2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9640" y="6605640"/>
            <a:ext cx="208080" cy="279360"/>
          </a:xfrm>
          <a:custGeom>
            <a:avLst/>
            <a:gdLst/>
            <a:ahLst/>
            <a:rect l="l" t="t" r="r" b="b"/>
            <a:pathLst>
              <a:path w="131" h="176">
                <a:moveTo>
                  <a:pt x="5" y="0"/>
                </a:moveTo>
                <a:cubicBezTo>
                  <a:pt x="7" y="7"/>
                  <a:pt x="11" y="13"/>
                  <a:pt x="12" y="20"/>
                </a:cubicBezTo>
                <a:cubicBezTo>
                  <a:pt x="26" y="137"/>
                  <a:pt x="0" y="126"/>
                  <a:pt x="113" y="135"/>
                </a:cubicBezTo>
                <a:cubicBezTo>
                  <a:pt x="131" y="162"/>
                  <a:pt x="127" y="148"/>
                  <a:pt x="127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26920" y="6453360"/>
            <a:ext cx="14472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645336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58560" y="6453360"/>
            <a:ext cx="1443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76360" y="6453360"/>
            <a:ext cx="7128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6443640"/>
            <a:ext cx="312840" cy="441360"/>
          </a:xfrm>
          <a:custGeom>
            <a:avLst/>
            <a:gdLst/>
            <a:ahLst/>
            <a:rect l="l" t="t" r="r" b="b"/>
            <a:pathLst>
              <a:path w="197" h="278">
                <a:moveTo>
                  <a:pt x="46" y="0"/>
                </a:moveTo>
                <a:cubicBezTo>
                  <a:pt x="37" y="2"/>
                  <a:pt x="26" y="1"/>
                  <a:pt x="19" y="7"/>
                </a:cubicBezTo>
                <a:cubicBezTo>
                  <a:pt x="0" y="22"/>
                  <a:pt x="21" y="63"/>
                  <a:pt x="33" y="75"/>
                </a:cubicBezTo>
                <a:cubicBezTo>
                  <a:pt x="58" y="100"/>
                  <a:pt x="89" y="104"/>
                  <a:pt x="121" y="115"/>
                </a:cubicBezTo>
                <a:cubicBezTo>
                  <a:pt x="135" y="120"/>
                  <a:pt x="162" y="129"/>
                  <a:pt x="162" y="129"/>
                </a:cubicBezTo>
                <a:cubicBezTo>
                  <a:pt x="165" y="132"/>
                  <a:pt x="197" y="162"/>
                  <a:pt x="196" y="170"/>
                </a:cubicBezTo>
                <a:cubicBezTo>
                  <a:pt x="194" y="180"/>
                  <a:pt x="181" y="182"/>
                  <a:pt x="175" y="190"/>
                </a:cubicBezTo>
                <a:cubicBezTo>
                  <a:pt x="165" y="203"/>
                  <a:pt x="157" y="217"/>
                  <a:pt x="148" y="231"/>
                </a:cubicBezTo>
                <a:cubicBezTo>
                  <a:pt x="139" y="245"/>
                  <a:pt x="107" y="258"/>
                  <a:pt x="107" y="258"/>
                </a:cubicBezTo>
                <a:cubicBezTo>
                  <a:pt x="105" y="265"/>
                  <a:pt x="101" y="278"/>
                  <a:pt x="101" y="2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92000" y="6381720"/>
            <a:ext cx="2156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17720" y="6443640"/>
            <a:ext cx="212760" cy="436680"/>
          </a:xfrm>
          <a:custGeom>
            <a:avLst/>
            <a:gdLst/>
            <a:ahLst/>
            <a:rect l="l" t="t" r="r" b="b"/>
            <a:pathLst>
              <a:path w="134" h="275">
                <a:moveTo>
                  <a:pt x="100" y="0"/>
                </a:moveTo>
                <a:cubicBezTo>
                  <a:pt x="59" y="6"/>
                  <a:pt x="41" y="1"/>
                  <a:pt x="19" y="34"/>
                </a:cubicBezTo>
                <a:cubicBezTo>
                  <a:pt x="0" y="109"/>
                  <a:pt x="56" y="122"/>
                  <a:pt x="107" y="156"/>
                </a:cubicBezTo>
                <a:cubicBezTo>
                  <a:pt x="127" y="186"/>
                  <a:pt x="134" y="210"/>
                  <a:pt x="93" y="224"/>
                </a:cubicBezTo>
                <a:cubicBezTo>
                  <a:pt x="91" y="226"/>
                  <a:pt x="52" y="275"/>
                  <a:pt x="52" y="2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76480" y="6462720"/>
            <a:ext cx="376200" cy="422280"/>
          </a:xfrm>
          <a:custGeom>
            <a:avLst/>
            <a:gdLst/>
            <a:ahLst/>
            <a:rect l="l" t="t" r="r" b="b"/>
            <a:pathLst>
              <a:path w="237" h="266">
                <a:moveTo>
                  <a:pt x="237" y="2"/>
                </a:moveTo>
                <a:cubicBezTo>
                  <a:pt x="203" y="4"/>
                  <a:pt x="168" y="0"/>
                  <a:pt x="135" y="8"/>
                </a:cubicBezTo>
                <a:cubicBezTo>
                  <a:pt x="128" y="10"/>
                  <a:pt x="129" y="22"/>
                  <a:pt x="129" y="29"/>
                </a:cubicBezTo>
                <a:cubicBezTo>
                  <a:pt x="129" y="62"/>
                  <a:pt x="140" y="81"/>
                  <a:pt x="162" y="103"/>
                </a:cubicBezTo>
                <a:cubicBezTo>
                  <a:pt x="150" y="196"/>
                  <a:pt x="170" y="119"/>
                  <a:pt x="135" y="171"/>
                </a:cubicBezTo>
                <a:cubicBezTo>
                  <a:pt x="118" y="197"/>
                  <a:pt x="124" y="206"/>
                  <a:pt x="88" y="219"/>
                </a:cubicBezTo>
                <a:cubicBezTo>
                  <a:pt x="64" y="243"/>
                  <a:pt x="36" y="266"/>
                  <a:pt x="0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6364440"/>
            <a:ext cx="311040" cy="493560"/>
          </a:xfrm>
          <a:custGeom>
            <a:avLst/>
            <a:gdLst/>
            <a:ahLst/>
            <a:rect l="l" t="t" r="r" b="b"/>
            <a:pathLst>
              <a:path w="196" h="311">
                <a:moveTo>
                  <a:pt x="88" y="0"/>
                </a:moveTo>
                <a:cubicBezTo>
                  <a:pt x="72" y="16"/>
                  <a:pt x="48" y="26"/>
                  <a:pt x="41" y="47"/>
                </a:cubicBezTo>
                <a:cubicBezTo>
                  <a:pt x="31" y="76"/>
                  <a:pt x="19" y="97"/>
                  <a:pt x="0" y="122"/>
                </a:cubicBezTo>
                <a:cubicBezTo>
                  <a:pt x="2" y="135"/>
                  <a:pt x="0" y="151"/>
                  <a:pt x="7" y="162"/>
                </a:cubicBezTo>
                <a:cubicBezTo>
                  <a:pt x="11" y="169"/>
                  <a:pt x="45" y="180"/>
                  <a:pt x="54" y="183"/>
                </a:cubicBezTo>
                <a:cubicBezTo>
                  <a:pt x="98" y="197"/>
                  <a:pt x="138" y="208"/>
                  <a:pt x="183" y="216"/>
                </a:cubicBezTo>
                <a:cubicBezTo>
                  <a:pt x="196" y="254"/>
                  <a:pt x="179" y="249"/>
                  <a:pt x="156" y="277"/>
                </a:cubicBezTo>
                <a:cubicBezTo>
                  <a:pt x="151" y="283"/>
                  <a:pt x="149" y="292"/>
                  <a:pt x="143" y="298"/>
                </a:cubicBezTo>
                <a:cubicBezTo>
                  <a:pt x="137" y="304"/>
                  <a:pt x="122" y="311"/>
                  <a:pt x="122" y="3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6453360"/>
            <a:ext cx="1443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7640" y="6381720"/>
            <a:ext cx="2876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6453360"/>
            <a:ext cx="7308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55640" y="6524640"/>
            <a:ext cx="144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6524640"/>
            <a:ext cx="2160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3280" y="2817720"/>
            <a:ext cx="1168560" cy="1216080"/>
          </a:xfrm>
          <a:custGeom>
            <a:avLst/>
            <a:gdLst/>
            <a:ahLst/>
            <a:rect l="l" t="t" r="r" b="b"/>
            <a:pathLst>
              <a:path w="736" h="766">
                <a:moveTo>
                  <a:pt x="400" y="68"/>
                </a:moveTo>
                <a:cubicBezTo>
                  <a:pt x="381" y="41"/>
                  <a:pt x="353" y="18"/>
                  <a:pt x="325" y="0"/>
                </a:cubicBezTo>
                <a:cubicBezTo>
                  <a:pt x="209" y="6"/>
                  <a:pt x="145" y="3"/>
                  <a:pt x="54" y="68"/>
                </a:cubicBezTo>
                <a:cubicBezTo>
                  <a:pt x="50" y="75"/>
                  <a:pt x="47" y="84"/>
                  <a:pt x="41" y="89"/>
                </a:cubicBezTo>
                <a:cubicBezTo>
                  <a:pt x="36" y="93"/>
                  <a:pt x="26" y="90"/>
                  <a:pt x="21" y="95"/>
                </a:cubicBezTo>
                <a:cubicBezTo>
                  <a:pt x="12" y="104"/>
                  <a:pt x="4" y="130"/>
                  <a:pt x="0" y="143"/>
                </a:cubicBezTo>
                <a:cubicBezTo>
                  <a:pt x="12" y="232"/>
                  <a:pt x="49" y="273"/>
                  <a:pt x="129" y="312"/>
                </a:cubicBezTo>
                <a:cubicBezTo>
                  <a:pt x="157" y="351"/>
                  <a:pt x="201" y="353"/>
                  <a:pt x="244" y="366"/>
                </a:cubicBezTo>
                <a:cubicBezTo>
                  <a:pt x="296" y="332"/>
                  <a:pt x="367" y="308"/>
                  <a:pt x="427" y="292"/>
                </a:cubicBezTo>
                <a:cubicBezTo>
                  <a:pt x="454" y="295"/>
                  <a:pt x="485" y="290"/>
                  <a:pt x="508" y="305"/>
                </a:cubicBezTo>
                <a:cubicBezTo>
                  <a:pt x="559" y="338"/>
                  <a:pt x="502" y="318"/>
                  <a:pt x="549" y="332"/>
                </a:cubicBezTo>
                <a:cubicBezTo>
                  <a:pt x="592" y="365"/>
                  <a:pt x="626" y="405"/>
                  <a:pt x="671" y="434"/>
                </a:cubicBezTo>
                <a:cubicBezTo>
                  <a:pt x="736" y="526"/>
                  <a:pt x="671" y="620"/>
                  <a:pt x="617" y="698"/>
                </a:cubicBezTo>
                <a:cubicBezTo>
                  <a:pt x="607" y="713"/>
                  <a:pt x="598" y="729"/>
                  <a:pt x="583" y="739"/>
                </a:cubicBezTo>
                <a:cubicBezTo>
                  <a:pt x="566" y="750"/>
                  <a:pt x="529" y="766"/>
                  <a:pt x="529" y="766"/>
                </a:cubicBezTo>
                <a:cubicBezTo>
                  <a:pt x="444" y="759"/>
                  <a:pt x="457" y="759"/>
                  <a:pt x="400" y="739"/>
                </a:cubicBezTo>
                <a:cubicBezTo>
                  <a:pt x="351" y="690"/>
                  <a:pt x="411" y="746"/>
                  <a:pt x="353" y="705"/>
                </a:cubicBezTo>
                <a:cubicBezTo>
                  <a:pt x="324" y="684"/>
                  <a:pt x="301" y="657"/>
                  <a:pt x="271" y="637"/>
                </a:cubicBezTo>
                <a:cubicBezTo>
                  <a:pt x="263" y="615"/>
                  <a:pt x="264" y="624"/>
                  <a:pt x="264" y="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2840" y="2754360"/>
            <a:ext cx="657360" cy="914400"/>
          </a:xfrm>
          <a:custGeom>
            <a:avLst/>
            <a:gdLst/>
            <a:ahLst/>
            <a:rect l="l" t="t" r="r" b="b"/>
            <a:pathLst>
              <a:path w="414" h="576">
                <a:moveTo>
                  <a:pt x="0" y="0"/>
                </a:moveTo>
                <a:cubicBezTo>
                  <a:pt x="19" y="25"/>
                  <a:pt x="36" y="43"/>
                  <a:pt x="61" y="61"/>
                </a:cubicBezTo>
                <a:cubicBezTo>
                  <a:pt x="76" y="90"/>
                  <a:pt x="96" y="109"/>
                  <a:pt x="116" y="135"/>
                </a:cubicBezTo>
                <a:cubicBezTo>
                  <a:pt x="130" y="185"/>
                  <a:pt x="177" y="220"/>
                  <a:pt x="204" y="264"/>
                </a:cubicBezTo>
                <a:cubicBezTo>
                  <a:pt x="225" y="298"/>
                  <a:pt x="240" y="334"/>
                  <a:pt x="265" y="366"/>
                </a:cubicBezTo>
                <a:cubicBezTo>
                  <a:pt x="287" y="429"/>
                  <a:pt x="323" y="491"/>
                  <a:pt x="366" y="542"/>
                </a:cubicBezTo>
                <a:cubicBezTo>
                  <a:pt x="382" y="561"/>
                  <a:pt x="387" y="576"/>
                  <a:pt x="414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43480" y="2925720"/>
            <a:ext cx="407880" cy="204840"/>
          </a:xfrm>
          <a:custGeom>
            <a:avLst/>
            <a:gdLst/>
            <a:ahLst/>
            <a:rect l="l" t="t" r="r" b="b"/>
            <a:pathLst>
              <a:path w="257" h="129">
                <a:moveTo>
                  <a:pt x="0" y="129"/>
                </a:moveTo>
                <a:cubicBezTo>
                  <a:pt x="7" y="127"/>
                  <a:pt x="14" y="125"/>
                  <a:pt x="20" y="122"/>
                </a:cubicBezTo>
                <a:cubicBezTo>
                  <a:pt x="27" y="118"/>
                  <a:pt x="33" y="112"/>
                  <a:pt x="40" y="109"/>
                </a:cubicBezTo>
                <a:cubicBezTo>
                  <a:pt x="82" y="93"/>
                  <a:pt x="132" y="84"/>
                  <a:pt x="176" y="75"/>
                </a:cubicBezTo>
                <a:cubicBezTo>
                  <a:pt x="198" y="60"/>
                  <a:pt x="215" y="42"/>
                  <a:pt x="237" y="27"/>
                </a:cubicBezTo>
                <a:cubicBezTo>
                  <a:pt x="252" y="4"/>
                  <a:pt x="244" y="13"/>
                  <a:pt x="2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2714760"/>
            <a:ext cx="731880" cy="660240"/>
          </a:xfrm>
          <a:custGeom>
            <a:avLst/>
            <a:gdLst/>
            <a:ahLst/>
            <a:rect l="l" t="t" r="r" b="b"/>
            <a:pathLst>
              <a:path w="461" h="416">
                <a:moveTo>
                  <a:pt x="75" y="303"/>
                </a:moveTo>
                <a:cubicBezTo>
                  <a:pt x="125" y="285"/>
                  <a:pt x="65" y="311"/>
                  <a:pt x="109" y="276"/>
                </a:cubicBezTo>
                <a:cubicBezTo>
                  <a:pt x="122" y="266"/>
                  <a:pt x="194" y="230"/>
                  <a:pt x="210" y="228"/>
                </a:cubicBezTo>
                <a:cubicBezTo>
                  <a:pt x="244" y="224"/>
                  <a:pt x="278" y="223"/>
                  <a:pt x="312" y="221"/>
                </a:cubicBezTo>
                <a:cubicBezTo>
                  <a:pt x="341" y="176"/>
                  <a:pt x="349" y="96"/>
                  <a:pt x="305" y="59"/>
                </a:cubicBezTo>
                <a:cubicBezTo>
                  <a:pt x="283" y="41"/>
                  <a:pt x="257" y="26"/>
                  <a:pt x="231" y="18"/>
                </a:cubicBezTo>
                <a:cubicBezTo>
                  <a:pt x="217" y="14"/>
                  <a:pt x="190" y="4"/>
                  <a:pt x="190" y="4"/>
                </a:cubicBezTo>
                <a:cubicBezTo>
                  <a:pt x="158" y="7"/>
                  <a:pt x="122" y="0"/>
                  <a:pt x="95" y="18"/>
                </a:cubicBezTo>
                <a:cubicBezTo>
                  <a:pt x="54" y="46"/>
                  <a:pt x="16" y="86"/>
                  <a:pt x="0" y="133"/>
                </a:cubicBezTo>
                <a:cubicBezTo>
                  <a:pt x="6" y="188"/>
                  <a:pt x="10" y="216"/>
                  <a:pt x="34" y="262"/>
                </a:cubicBezTo>
                <a:cubicBezTo>
                  <a:pt x="50" y="292"/>
                  <a:pt x="82" y="308"/>
                  <a:pt x="109" y="323"/>
                </a:cubicBezTo>
                <a:cubicBezTo>
                  <a:pt x="163" y="353"/>
                  <a:pt x="211" y="379"/>
                  <a:pt x="271" y="397"/>
                </a:cubicBezTo>
                <a:cubicBezTo>
                  <a:pt x="330" y="394"/>
                  <a:pt x="461" y="416"/>
                  <a:pt x="461" y="3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5400" y="2583000"/>
            <a:ext cx="855720" cy="1003320"/>
          </a:xfrm>
          <a:custGeom>
            <a:avLst/>
            <a:gdLst/>
            <a:ahLst/>
            <a:rect l="l" t="t" r="r" b="b"/>
            <a:pathLst>
              <a:path w="539" h="632">
                <a:moveTo>
                  <a:pt x="10" y="13"/>
                </a:moveTo>
                <a:cubicBezTo>
                  <a:pt x="70" y="50"/>
                  <a:pt x="0" y="0"/>
                  <a:pt x="37" y="47"/>
                </a:cubicBezTo>
                <a:cubicBezTo>
                  <a:pt x="43" y="54"/>
                  <a:pt x="88" y="87"/>
                  <a:pt x="98" y="94"/>
                </a:cubicBezTo>
                <a:cubicBezTo>
                  <a:pt x="103" y="101"/>
                  <a:pt x="106" y="109"/>
                  <a:pt x="112" y="115"/>
                </a:cubicBezTo>
                <a:cubicBezTo>
                  <a:pt x="124" y="126"/>
                  <a:pt x="153" y="142"/>
                  <a:pt x="153" y="142"/>
                </a:cubicBezTo>
                <a:cubicBezTo>
                  <a:pt x="161" y="169"/>
                  <a:pt x="170" y="180"/>
                  <a:pt x="193" y="196"/>
                </a:cubicBezTo>
                <a:cubicBezTo>
                  <a:pt x="217" y="242"/>
                  <a:pt x="252" y="287"/>
                  <a:pt x="288" y="325"/>
                </a:cubicBezTo>
                <a:cubicBezTo>
                  <a:pt x="307" y="380"/>
                  <a:pt x="274" y="294"/>
                  <a:pt x="336" y="386"/>
                </a:cubicBezTo>
                <a:cubicBezTo>
                  <a:pt x="365" y="428"/>
                  <a:pt x="398" y="462"/>
                  <a:pt x="430" y="501"/>
                </a:cubicBezTo>
                <a:cubicBezTo>
                  <a:pt x="446" y="520"/>
                  <a:pt x="455" y="544"/>
                  <a:pt x="471" y="562"/>
                </a:cubicBezTo>
                <a:cubicBezTo>
                  <a:pt x="533" y="632"/>
                  <a:pt x="496" y="575"/>
                  <a:pt x="525" y="623"/>
                </a:cubicBezTo>
                <a:cubicBezTo>
                  <a:pt x="530" y="616"/>
                  <a:pt x="539" y="610"/>
                  <a:pt x="539" y="602"/>
                </a:cubicBezTo>
                <a:cubicBezTo>
                  <a:pt x="539" y="594"/>
                  <a:pt x="529" y="589"/>
                  <a:pt x="525" y="582"/>
                </a:cubicBezTo>
                <a:cubicBezTo>
                  <a:pt x="522" y="576"/>
                  <a:pt x="519" y="562"/>
                  <a:pt x="519" y="5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64080" y="2344680"/>
            <a:ext cx="731880" cy="64944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0" y="190"/>
                </a:moveTo>
                <a:cubicBezTo>
                  <a:pt x="2" y="175"/>
                  <a:pt x="2" y="130"/>
                  <a:pt x="14" y="109"/>
                </a:cubicBezTo>
                <a:cubicBezTo>
                  <a:pt x="47" y="50"/>
                  <a:pt x="106" y="24"/>
                  <a:pt x="170" y="7"/>
                </a:cubicBezTo>
                <a:cubicBezTo>
                  <a:pt x="337" y="13"/>
                  <a:pt x="320" y="0"/>
                  <a:pt x="414" y="27"/>
                </a:cubicBezTo>
                <a:cubicBezTo>
                  <a:pt x="418" y="34"/>
                  <a:pt x="421" y="42"/>
                  <a:pt x="427" y="48"/>
                </a:cubicBezTo>
                <a:cubicBezTo>
                  <a:pt x="433" y="54"/>
                  <a:pt x="443" y="55"/>
                  <a:pt x="448" y="61"/>
                </a:cubicBezTo>
                <a:cubicBezTo>
                  <a:pt x="457" y="72"/>
                  <a:pt x="456" y="88"/>
                  <a:pt x="461" y="102"/>
                </a:cubicBezTo>
                <a:cubicBezTo>
                  <a:pt x="459" y="181"/>
                  <a:pt x="458" y="260"/>
                  <a:pt x="454" y="339"/>
                </a:cubicBezTo>
                <a:cubicBezTo>
                  <a:pt x="451" y="409"/>
                  <a:pt x="341" y="405"/>
                  <a:pt x="299" y="407"/>
                </a:cubicBezTo>
                <a:cubicBezTo>
                  <a:pt x="272" y="408"/>
                  <a:pt x="244" y="407"/>
                  <a:pt x="217" y="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1484280"/>
            <a:ext cx="1119240" cy="1108080"/>
          </a:xfrm>
          <a:custGeom>
            <a:avLst/>
            <a:gdLst/>
            <a:ahLst/>
            <a:rect l="l" t="t" r="r" b="b"/>
            <a:pathLst>
              <a:path w="705" h="698">
                <a:moveTo>
                  <a:pt x="0" y="298"/>
                </a:moveTo>
                <a:cubicBezTo>
                  <a:pt x="12" y="263"/>
                  <a:pt x="20" y="227"/>
                  <a:pt x="41" y="197"/>
                </a:cubicBezTo>
                <a:cubicBezTo>
                  <a:pt x="55" y="128"/>
                  <a:pt x="94" y="69"/>
                  <a:pt x="115" y="0"/>
                </a:cubicBezTo>
                <a:cubicBezTo>
                  <a:pt x="142" y="38"/>
                  <a:pt x="164" y="77"/>
                  <a:pt x="190" y="115"/>
                </a:cubicBezTo>
                <a:cubicBezTo>
                  <a:pt x="201" y="147"/>
                  <a:pt x="250" y="211"/>
                  <a:pt x="278" y="231"/>
                </a:cubicBezTo>
                <a:cubicBezTo>
                  <a:pt x="306" y="310"/>
                  <a:pt x="261" y="187"/>
                  <a:pt x="298" y="271"/>
                </a:cubicBezTo>
                <a:cubicBezTo>
                  <a:pt x="309" y="296"/>
                  <a:pt x="316" y="330"/>
                  <a:pt x="332" y="353"/>
                </a:cubicBezTo>
                <a:cubicBezTo>
                  <a:pt x="363" y="398"/>
                  <a:pt x="344" y="349"/>
                  <a:pt x="366" y="393"/>
                </a:cubicBezTo>
                <a:cubicBezTo>
                  <a:pt x="379" y="420"/>
                  <a:pt x="365" y="409"/>
                  <a:pt x="386" y="434"/>
                </a:cubicBezTo>
                <a:cubicBezTo>
                  <a:pt x="411" y="464"/>
                  <a:pt x="403" y="444"/>
                  <a:pt x="427" y="475"/>
                </a:cubicBezTo>
                <a:cubicBezTo>
                  <a:pt x="468" y="529"/>
                  <a:pt x="436" y="502"/>
                  <a:pt x="474" y="529"/>
                </a:cubicBezTo>
                <a:cubicBezTo>
                  <a:pt x="479" y="536"/>
                  <a:pt x="482" y="543"/>
                  <a:pt x="488" y="549"/>
                </a:cubicBezTo>
                <a:cubicBezTo>
                  <a:pt x="494" y="555"/>
                  <a:pt x="505" y="555"/>
                  <a:pt x="508" y="563"/>
                </a:cubicBezTo>
                <a:cubicBezTo>
                  <a:pt x="518" y="586"/>
                  <a:pt x="490" y="585"/>
                  <a:pt x="481" y="590"/>
                </a:cubicBezTo>
                <a:cubicBezTo>
                  <a:pt x="453" y="606"/>
                  <a:pt x="428" y="622"/>
                  <a:pt x="400" y="637"/>
                </a:cubicBezTo>
                <a:cubicBezTo>
                  <a:pt x="375" y="650"/>
                  <a:pt x="382" y="653"/>
                  <a:pt x="359" y="671"/>
                </a:cubicBezTo>
                <a:cubicBezTo>
                  <a:pt x="346" y="681"/>
                  <a:pt x="319" y="698"/>
                  <a:pt x="319" y="698"/>
                </a:cubicBezTo>
                <a:cubicBezTo>
                  <a:pt x="329" y="664"/>
                  <a:pt x="316" y="688"/>
                  <a:pt x="346" y="671"/>
                </a:cubicBezTo>
                <a:cubicBezTo>
                  <a:pt x="360" y="663"/>
                  <a:pt x="386" y="644"/>
                  <a:pt x="386" y="644"/>
                </a:cubicBezTo>
                <a:cubicBezTo>
                  <a:pt x="410" y="609"/>
                  <a:pt x="442" y="602"/>
                  <a:pt x="481" y="590"/>
                </a:cubicBezTo>
                <a:cubicBezTo>
                  <a:pt x="517" y="566"/>
                  <a:pt x="555" y="560"/>
                  <a:pt x="596" y="549"/>
                </a:cubicBezTo>
                <a:cubicBezTo>
                  <a:pt x="613" y="545"/>
                  <a:pt x="627" y="534"/>
                  <a:pt x="644" y="529"/>
                </a:cubicBezTo>
                <a:cubicBezTo>
                  <a:pt x="658" y="519"/>
                  <a:pt x="705" y="506"/>
                  <a:pt x="705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1268280"/>
            <a:ext cx="3991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 from households and storm water drains.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971640" y="134100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2492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27280" y="4869000"/>
            <a:ext cx="61531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rst filter takes out rubbish eg.plastics, glass etc. which will be recycle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95280" y="5157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516640"/>
            <a:ext cx="6011640" cy="86508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6021360"/>
            <a:ext cx="1979640" cy="836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51280" y="5734080"/>
            <a:ext cx="26575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ubbish is transported to recycling plant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640" y="189000"/>
            <a:ext cx="287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33360"/>
            <a:ext cx="431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47280" y="0"/>
            <a:ext cx="28764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34920" y="189000"/>
            <a:ext cx="4330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476280"/>
            <a:ext cx="576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124000" y="189000"/>
            <a:ext cx="4320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0"/>
            <a:ext cx="432000" cy="24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99640" y="476280"/>
            <a:ext cx="71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620640"/>
            <a:ext cx="360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206280"/>
            <a:ext cx="2028600" cy="2397240"/>
          </a:xfrm>
          <a:custGeom>
            <a:avLst/>
            <a:gdLst/>
            <a:ahLst/>
            <a:rect l="l" t="t" r="r" b="b"/>
            <a:pathLst>
              <a:path w="1278" h="1510">
                <a:moveTo>
                  <a:pt x="438" y="161"/>
                </a:moveTo>
                <a:cubicBezTo>
                  <a:pt x="402" y="150"/>
                  <a:pt x="420" y="155"/>
                  <a:pt x="364" y="141"/>
                </a:cubicBezTo>
                <a:cubicBezTo>
                  <a:pt x="355" y="139"/>
                  <a:pt x="336" y="134"/>
                  <a:pt x="336" y="134"/>
                </a:cubicBezTo>
                <a:cubicBezTo>
                  <a:pt x="235" y="144"/>
                  <a:pt x="262" y="134"/>
                  <a:pt x="214" y="202"/>
                </a:cubicBezTo>
                <a:cubicBezTo>
                  <a:pt x="197" y="257"/>
                  <a:pt x="200" y="309"/>
                  <a:pt x="214" y="365"/>
                </a:cubicBezTo>
                <a:cubicBezTo>
                  <a:pt x="215" y="367"/>
                  <a:pt x="224" y="407"/>
                  <a:pt x="228" y="412"/>
                </a:cubicBezTo>
                <a:cubicBezTo>
                  <a:pt x="262" y="456"/>
                  <a:pt x="306" y="501"/>
                  <a:pt x="350" y="534"/>
                </a:cubicBezTo>
                <a:cubicBezTo>
                  <a:pt x="421" y="588"/>
                  <a:pt x="385" y="574"/>
                  <a:pt x="431" y="588"/>
                </a:cubicBezTo>
                <a:cubicBezTo>
                  <a:pt x="465" y="632"/>
                  <a:pt x="514" y="672"/>
                  <a:pt x="560" y="704"/>
                </a:cubicBezTo>
                <a:cubicBezTo>
                  <a:pt x="572" y="737"/>
                  <a:pt x="596" y="762"/>
                  <a:pt x="614" y="792"/>
                </a:cubicBezTo>
                <a:cubicBezTo>
                  <a:pt x="608" y="852"/>
                  <a:pt x="608" y="888"/>
                  <a:pt x="574" y="934"/>
                </a:cubicBezTo>
                <a:cubicBezTo>
                  <a:pt x="548" y="1007"/>
                  <a:pt x="476" y="1029"/>
                  <a:pt x="411" y="1049"/>
                </a:cubicBezTo>
                <a:cubicBezTo>
                  <a:pt x="391" y="1055"/>
                  <a:pt x="370" y="1062"/>
                  <a:pt x="350" y="1069"/>
                </a:cubicBezTo>
                <a:cubicBezTo>
                  <a:pt x="336" y="1074"/>
                  <a:pt x="309" y="1083"/>
                  <a:pt x="309" y="1083"/>
                </a:cubicBezTo>
                <a:cubicBezTo>
                  <a:pt x="302" y="1105"/>
                  <a:pt x="275" y="1144"/>
                  <a:pt x="275" y="1144"/>
                </a:cubicBezTo>
                <a:cubicBezTo>
                  <a:pt x="277" y="1176"/>
                  <a:pt x="276" y="1208"/>
                  <a:pt x="282" y="1239"/>
                </a:cubicBezTo>
                <a:cubicBezTo>
                  <a:pt x="286" y="1259"/>
                  <a:pt x="340" y="1292"/>
                  <a:pt x="343" y="1293"/>
                </a:cubicBezTo>
                <a:cubicBezTo>
                  <a:pt x="401" y="1310"/>
                  <a:pt x="462" y="1314"/>
                  <a:pt x="519" y="1334"/>
                </a:cubicBezTo>
                <a:cubicBezTo>
                  <a:pt x="567" y="1328"/>
                  <a:pt x="594" y="1324"/>
                  <a:pt x="635" y="1300"/>
                </a:cubicBezTo>
                <a:cubicBezTo>
                  <a:pt x="649" y="1292"/>
                  <a:pt x="662" y="1282"/>
                  <a:pt x="675" y="1273"/>
                </a:cubicBezTo>
                <a:cubicBezTo>
                  <a:pt x="682" y="1268"/>
                  <a:pt x="696" y="1259"/>
                  <a:pt x="696" y="1259"/>
                </a:cubicBezTo>
                <a:cubicBezTo>
                  <a:pt x="718" y="1227"/>
                  <a:pt x="723" y="1223"/>
                  <a:pt x="736" y="1191"/>
                </a:cubicBezTo>
                <a:cubicBezTo>
                  <a:pt x="741" y="1178"/>
                  <a:pt x="745" y="1164"/>
                  <a:pt x="750" y="1151"/>
                </a:cubicBezTo>
                <a:cubicBezTo>
                  <a:pt x="752" y="1144"/>
                  <a:pt x="757" y="1130"/>
                  <a:pt x="757" y="1130"/>
                </a:cubicBezTo>
                <a:cubicBezTo>
                  <a:pt x="756" y="1120"/>
                  <a:pt x="755" y="1063"/>
                  <a:pt x="743" y="1042"/>
                </a:cubicBezTo>
                <a:cubicBezTo>
                  <a:pt x="718" y="997"/>
                  <a:pt x="686" y="949"/>
                  <a:pt x="655" y="907"/>
                </a:cubicBezTo>
                <a:cubicBezTo>
                  <a:pt x="647" y="884"/>
                  <a:pt x="636" y="862"/>
                  <a:pt x="628" y="839"/>
                </a:cubicBezTo>
                <a:cubicBezTo>
                  <a:pt x="618" y="779"/>
                  <a:pt x="615" y="785"/>
                  <a:pt x="628" y="704"/>
                </a:cubicBezTo>
                <a:cubicBezTo>
                  <a:pt x="633" y="673"/>
                  <a:pt x="659" y="645"/>
                  <a:pt x="675" y="622"/>
                </a:cubicBezTo>
                <a:cubicBezTo>
                  <a:pt x="714" y="567"/>
                  <a:pt x="739" y="498"/>
                  <a:pt x="797" y="460"/>
                </a:cubicBezTo>
                <a:cubicBezTo>
                  <a:pt x="813" y="436"/>
                  <a:pt x="822" y="415"/>
                  <a:pt x="845" y="399"/>
                </a:cubicBezTo>
                <a:cubicBezTo>
                  <a:pt x="853" y="393"/>
                  <a:pt x="864" y="391"/>
                  <a:pt x="872" y="385"/>
                </a:cubicBezTo>
                <a:cubicBezTo>
                  <a:pt x="914" y="351"/>
                  <a:pt x="910" y="337"/>
                  <a:pt x="960" y="324"/>
                </a:cubicBezTo>
                <a:cubicBezTo>
                  <a:pt x="1031" y="353"/>
                  <a:pt x="1101" y="391"/>
                  <a:pt x="1156" y="446"/>
                </a:cubicBezTo>
                <a:cubicBezTo>
                  <a:pt x="1166" y="475"/>
                  <a:pt x="1174" y="483"/>
                  <a:pt x="1204" y="473"/>
                </a:cubicBezTo>
                <a:cubicBezTo>
                  <a:pt x="1260" y="417"/>
                  <a:pt x="1241" y="445"/>
                  <a:pt x="1217" y="290"/>
                </a:cubicBezTo>
                <a:cubicBezTo>
                  <a:pt x="1206" y="219"/>
                  <a:pt x="1127" y="181"/>
                  <a:pt x="1068" y="161"/>
                </a:cubicBezTo>
                <a:cubicBezTo>
                  <a:pt x="1032" y="164"/>
                  <a:pt x="989" y="153"/>
                  <a:pt x="960" y="175"/>
                </a:cubicBezTo>
                <a:cubicBezTo>
                  <a:pt x="945" y="187"/>
                  <a:pt x="919" y="216"/>
                  <a:pt x="919" y="216"/>
                </a:cubicBezTo>
                <a:cubicBezTo>
                  <a:pt x="901" y="254"/>
                  <a:pt x="882" y="284"/>
                  <a:pt x="872" y="324"/>
                </a:cubicBezTo>
                <a:cubicBezTo>
                  <a:pt x="876" y="413"/>
                  <a:pt x="858" y="465"/>
                  <a:pt x="906" y="527"/>
                </a:cubicBezTo>
                <a:cubicBezTo>
                  <a:pt x="919" y="571"/>
                  <a:pt x="962" y="611"/>
                  <a:pt x="994" y="643"/>
                </a:cubicBezTo>
                <a:cubicBezTo>
                  <a:pt x="1013" y="662"/>
                  <a:pt x="1061" y="690"/>
                  <a:pt x="1061" y="690"/>
                </a:cubicBezTo>
                <a:cubicBezTo>
                  <a:pt x="1090" y="731"/>
                  <a:pt x="1134" y="762"/>
                  <a:pt x="1170" y="798"/>
                </a:cubicBezTo>
                <a:cubicBezTo>
                  <a:pt x="1213" y="841"/>
                  <a:pt x="1252" y="899"/>
                  <a:pt x="1278" y="954"/>
                </a:cubicBezTo>
                <a:cubicBezTo>
                  <a:pt x="1272" y="1030"/>
                  <a:pt x="1270" y="1059"/>
                  <a:pt x="1224" y="1117"/>
                </a:cubicBezTo>
                <a:cubicBezTo>
                  <a:pt x="1206" y="1169"/>
                  <a:pt x="1166" y="1206"/>
                  <a:pt x="1116" y="1225"/>
                </a:cubicBezTo>
                <a:cubicBezTo>
                  <a:pt x="1083" y="1258"/>
                  <a:pt x="1066" y="1249"/>
                  <a:pt x="1028" y="1225"/>
                </a:cubicBezTo>
                <a:cubicBezTo>
                  <a:pt x="977" y="1193"/>
                  <a:pt x="938" y="1154"/>
                  <a:pt x="906" y="1103"/>
                </a:cubicBezTo>
                <a:cubicBezTo>
                  <a:pt x="899" y="1077"/>
                  <a:pt x="887" y="1055"/>
                  <a:pt x="879" y="1029"/>
                </a:cubicBezTo>
                <a:cubicBezTo>
                  <a:pt x="881" y="995"/>
                  <a:pt x="878" y="960"/>
                  <a:pt x="885" y="927"/>
                </a:cubicBezTo>
                <a:cubicBezTo>
                  <a:pt x="892" y="895"/>
                  <a:pt x="964" y="854"/>
                  <a:pt x="980" y="839"/>
                </a:cubicBezTo>
                <a:cubicBezTo>
                  <a:pt x="1045" y="775"/>
                  <a:pt x="1012" y="815"/>
                  <a:pt x="1041" y="771"/>
                </a:cubicBezTo>
                <a:cubicBezTo>
                  <a:pt x="1050" y="758"/>
                  <a:pt x="1068" y="731"/>
                  <a:pt x="1068" y="731"/>
                </a:cubicBezTo>
                <a:cubicBezTo>
                  <a:pt x="1078" y="694"/>
                  <a:pt x="1090" y="658"/>
                  <a:pt x="1102" y="622"/>
                </a:cubicBezTo>
                <a:cubicBezTo>
                  <a:pt x="1100" y="584"/>
                  <a:pt x="1100" y="545"/>
                  <a:pt x="1095" y="507"/>
                </a:cubicBezTo>
                <a:cubicBezTo>
                  <a:pt x="1088" y="459"/>
                  <a:pt x="1044" y="420"/>
                  <a:pt x="1014" y="385"/>
                </a:cubicBezTo>
                <a:cubicBezTo>
                  <a:pt x="963" y="325"/>
                  <a:pt x="909" y="286"/>
                  <a:pt x="831" y="270"/>
                </a:cubicBezTo>
                <a:cubicBezTo>
                  <a:pt x="781" y="275"/>
                  <a:pt x="752" y="275"/>
                  <a:pt x="709" y="297"/>
                </a:cubicBezTo>
                <a:cubicBezTo>
                  <a:pt x="662" y="295"/>
                  <a:pt x="614" y="295"/>
                  <a:pt x="567" y="290"/>
                </a:cubicBezTo>
                <a:cubicBezTo>
                  <a:pt x="528" y="286"/>
                  <a:pt x="484" y="269"/>
                  <a:pt x="445" y="263"/>
                </a:cubicBezTo>
                <a:cubicBezTo>
                  <a:pt x="420" y="247"/>
                  <a:pt x="399" y="236"/>
                  <a:pt x="370" y="229"/>
                </a:cubicBezTo>
                <a:cubicBezTo>
                  <a:pt x="324" y="198"/>
                  <a:pt x="345" y="207"/>
                  <a:pt x="309" y="195"/>
                </a:cubicBezTo>
                <a:cubicBezTo>
                  <a:pt x="263" y="149"/>
                  <a:pt x="285" y="165"/>
                  <a:pt x="248" y="141"/>
                </a:cubicBezTo>
                <a:cubicBezTo>
                  <a:pt x="230" y="143"/>
                  <a:pt x="210" y="140"/>
                  <a:pt x="194" y="148"/>
                </a:cubicBezTo>
                <a:cubicBezTo>
                  <a:pt x="185" y="152"/>
                  <a:pt x="163" y="193"/>
                  <a:pt x="160" y="202"/>
                </a:cubicBezTo>
                <a:cubicBezTo>
                  <a:pt x="142" y="248"/>
                  <a:pt x="127" y="295"/>
                  <a:pt x="120" y="344"/>
                </a:cubicBezTo>
                <a:cubicBezTo>
                  <a:pt x="124" y="429"/>
                  <a:pt x="124" y="505"/>
                  <a:pt x="160" y="582"/>
                </a:cubicBezTo>
                <a:cubicBezTo>
                  <a:pt x="177" y="663"/>
                  <a:pt x="155" y="576"/>
                  <a:pt x="181" y="636"/>
                </a:cubicBezTo>
                <a:cubicBezTo>
                  <a:pt x="195" y="668"/>
                  <a:pt x="200" y="706"/>
                  <a:pt x="214" y="737"/>
                </a:cubicBezTo>
                <a:cubicBezTo>
                  <a:pt x="219" y="749"/>
                  <a:pt x="229" y="759"/>
                  <a:pt x="235" y="771"/>
                </a:cubicBezTo>
                <a:cubicBezTo>
                  <a:pt x="245" y="789"/>
                  <a:pt x="262" y="825"/>
                  <a:pt x="262" y="825"/>
                </a:cubicBezTo>
                <a:cubicBezTo>
                  <a:pt x="274" y="873"/>
                  <a:pt x="285" y="896"/>
                  <a:pt x="269" y="954"/>
                </a:cubicBezTo>
                <a:cubicBezTo>
                  <a:pt x="265" y="970"/>
                  <a:pt x="242" y="995"/>
                  <a:pt x="242" y="995"/>
                </a:cubicBezTo>
                <a:cubicBezTo>
                  <a:pt x="230" y="1040"/>
                  <a:pt x="201" y="1079"/>
                  <a:pt x="174" y="1117"/>
                </a:cubicBezTo>
                <a:cubicBezTo>
                  <a:pt x="163" y="1132"/>
                  <a:pt x="141" y="1134"/>
                  <a:pt x="126" y="1144"/>
                </a:cubicBezTo>
                <a:cubicBezTo>
                  <a:pt x="101" y="1137"/>
                  <a:pt x="83" y="1125"/>
                  <a:pt x="59" y="1117"/>
                </a:cubicBezTo>
                <a:cubicBezTo>
                  <a:pt x="0" y="1137"/>
                  <a:pt x="22" y="1190"/>
                  <a:pt x="31" y="1252"/>
                </a:cubicBezTo>
                <a:cubicBezTo>
                  <a:pt x="41" y="1317"/>
                  <a:pt x="129" y="1329"/>
                  <a:pt x="181" y="1340"/>
                </a:cubicBezTo>
                <a:cubicBezTo>
                  <a:pt x="366" y="1333"/>
                  <a:pt x="297" y="1345"/>
                  <a:pt x="411" y="1286"/>
                </a:cubicBezTo>
                <a:cubicBezTo>
                  <a:pt x="470" y="1212"/>
                  <a:pt x="449" y="1243"/>
                  <a:pt x="479" y="1198"/>
                </a:cubicBezTo>
                <a:cubicBezTo>
                  <a:pt x="483" y="1182"/>
                  <a:pt x="492" y="1167"/>
                  <a:pt x="492" y="1151"/>
                </a:cubicBezTo>
                <a:cubicBezTo>
                  <a:pt x="492" y="1078"/>
                  <a:pt x="469" y="1040"/>
                  <a:pt x="445" y="975"/>
                </a:cubicBezTo>
                <a:cubicBezTo>
                  <a:pt x="442" y="968"/>
                  <a:pt x="441" y="961"/>
                  <a:pt x="438" y="954"/>
                </a:cubicBezTo>
                <a:cubicBezTo>
                  <a:pt x="429" y="931"/>
                  <a:pt x="420" y="909"/>
                  <a:pt x="411" y="886"/>
                </a:cubicBezTo>
                <a:cubicBezTo>
                  <a:pt x="408" y="879"/>
                  <a:pt x="404" y="866"/>
                  <a:pt x="404" y="866"/>
                </a:cubicBezTo>
                <a:cubicBezTo>
                  <a:pt x="398" y="831"/>
                  <a:pt x="390" y="799"/>
                  <a:pt x="384" y="764"/>
                </a:cubicBezTo>
                <a:cubicBezTo>
                  <a:pt x="382" y="735"/>
                  <a:pt x="377" y="705"/>
                  <a:pt x="377" y="676"/>
                </a:cubicBezTo>
                <a:cubicBezTo>
                  <a:pt x="377" y="558"/>
                  <a:pt x="365" y="293"/>
                  <a:pt x="465" y="188"/>
                </a:cubicBezTo>
                <a:cubicBezTo>
                  <a:pt x="477" y="155"/>
                  <a:pt x="503" y="138"/>
                  <a:pt x="526" y="114"/>
                </a:cubicBezTo>
                <a:cubicBezTo>
                  <a:pt x="534" y="106"/>
                  <a:pt x="537" y="93"/>
                  <a:pt x="546" y="87"/>
                </a:cubicBezTo>
                <a:cubicBezTo>
                  <a:pt x="564" y="75"/>
                  <a:pt x="588" y="72"/>
                  <a:pt x="607" y="60"/>
                </a:cubicBezTo>
                <a:cubicBezTo>
                  <a:pt x="627" y="0"/>
                  <a:pt x="675" y="31"/>
                  <a:pt x="736" y="39"/>
                </a:cubicBezTo>
                <a:cubicBezTo>
                  <a:pt x="763" y="53"/>
                  <a:pt x="780" y="61"/>
                  <a:pt x="797" y="87"/>
                </a:cubicBezTo>
                <a:cubicBezTo>
                  <a:pt x="785" y="132"/>
                  <a:pt x="753" y="150"/>
                  <a:pt x="729" y="188"/>
                </a:cubicBezTo>
                <a:cubicBezTo>
                  <a:pt x="698" y="238"/>
                  <a:pt x="679" y="286"/>
                  <a:pt x="655" y="338"/>
                </a:cubicBezTo>
                <a:cubicBezTo>
                  <a:pt x="645" y="384"/>
                  <a:pt x="622" y="424"/>
                  <a:pt x="601" y="466"/>
                </a:cubicBezTo>
                <a:cubicBezTo>
                  <a:pt x="583" y="502"/>
                  <a:pt x="577" y="543"/>
                  <a:pt x="567" y="582"/>
                </a:cubicBezTo>
                <a:cubicBezTo>
                  <a:pt x="578" y="690"/>
                  <a:pt x="586" y="786"/>
                  <a:pt x="682" y="853"/>
                </a:cubicBezTo>
                <a:cubicBezTo>
                  <a:pt x="700" y="887"/>
                  <a:pt x="715" y="910"/>
                  <a:pt x="750" y="927"/>
                </a:cubicBezTo>
                <a:cubicBezTo>
                  <a:pt x="774" y="957"/>
                  <a:pt x="784" y="981"/>
                  <a:pt x="811" y="1008"/>
                </a:cubicBezTo>
                <a:cubicBezTo>
                  <a:pt x="819" y="1031"/>
                  <a:pt x="837" y="1052"/>
                  <a:pt x="838" y="1076"/>
                </a:cubicBezTo>
                <a:cubicBezTo>
                  <a:pt x="844" y="1190"/>
                  <a:pt x="847" y="1232"/>
                  <a:pt x="811" y="1313"/>
                </a:cubicBezTo>
                <a:cubicBezTo>
                  <a:pt x="805" y="1326"/>
                  <a:pt x="806" y="1343"/>
                  <a:pt x="797" y="1354"/>
                </a:cubicBezTo>
                <a:cubicBezTo>
                  <a:pt x="761" y="1399"/>
                  <a:pt x="729" y="1435"/>
                  <a:pt x="682" y="1469"/>
                </a:cubicBezTo>
                <a:cubicBezTo>
                  <a:pt x="681" y="1470"/>
                  <a:pt x="612" y="1501"/>
                  <a:pt x="614" y="1503"/>
                </a:cubicBezTo>
                <a:cubicBezTo>
                  <a:pt x="621" y="1510"/>
                  <a:pt x="632" y="1498"/>
                  <a:pt x="641" y="1496"/>
                </a:cubicBezTo>
                <a:cubicBezTo>
                  <a:pt x="655" y="1493"/>
                  <a:pt x="668" y="1492"/>
                  <a:pt x="682" y="1490"/>
                </a:cubicBezTo>
                <a:cubicBezTo>
                  <a:pt x="721" y="1477"/>
                  <a:pt x="757" y="1463"/>
                  <a:pt x="797" y="1456"/>
                </a:cubicBezTo>
                <a:cubicBezTo>
                  <a:pt x="832" y="1438"/>
                  <a:pt x="853" y="1409"/>
                  <a:pt x="885" y="1388"/>
                </a:cubicBezTo>
                <a:cubicBezTo>
                  <a:pt x="916" y="1326"/>
                  <a:pt x="901" y="1351"/>
                  <a:pt x="926" y="1313"/>
                </a:cubicBezTo>
                <a:cubicBezTo>
                  <a:pt x="960" y="1151"/>
                  <a:pt x="933" y="990"/>
                  <a:pt x="892" y="832"/>
                </a:cubicBezTo>
                <a:cubicBezTo>
                  <a:pt x="890" y="809"/>
                  <a:pt x="889" y="786"/>
                  <a:pt x="885" y="764"/>
                </a:cubicBezTo>
                <a:cubicBezTo>
                  <a:pt x="880" y="732"/>
                  <a:pt x="869" y="702"/>
                  <a:pt x="865" y="670"/>
                </a:cubicBezTo>
                <a:cubicBezTo>
                  <a:pt x="860" y="629"/>
                  <a:pt x="851" y="548"/>
                  <a:pt x="851" y="548"/>
                </a:cubicBezTo>
                <a:cubicBezTo>
                  <a:pt x="853" y="406"/>
                  <a:pt x="851" y="263"/>
                  <a:pt x="858" y="121"/>
                </a:cubicBezTo>
                <a:cubicBezTo>
                  <a:pt x="859" y="89"/>
                  <a:pt x="940" y="73"/>
                  <a:pt x="940" y="73"/>
                </a:cubicBezTo>
                <a:cubicBezTo>
                  <a:pt x="962" y="81"/>
                  <a:pt x="978" y="93"/>
                  <a:pt x="1000" y="100"/>
                </a:cubicBezTo>
                <a:cubicBezTo>
                  <a:pt x="1027" y="141"/>
                  <a:pt x="996" y="153"/>
                  <a:pt x="973" y="188"/>
                </a:cubicBezTo>
                <a:cubicBezTo>
                  <a:pt x="946" y="229"/>
                  <a:pt x="931" y="263"/>
                  <a:pt x="919" y="310"/>
                </a:cubicBezTo>
                <a:cubicBezTo>
                  <a:pt x="922" y="344"/>
                  <a:pt x="914" y="384"/>
                  <a:pt x="933" y="412"/>
                </a:cubicBezTo>
                <a:cubicBezTo>
                  <a:pt x="975" y="474"/>
                  <a:pt x="1036" y="522"/>
                  <a:pt x="1082" y="582"/>
                </a:cubicBezTo>
                <a:cubicBezTo>
                  <a:pt x="1129" y="643"/>
                  <a:pt x="1178" y="723"/>
                  <a:pt x="1197" y="798"/>
                </a:cubicBezTo>
                <a:cubicBezTo>
                  <a:pt x="1190" y="870"/>
                  <a:pt x="1180" y="916"/>
                  <a:pt x="1143" y="975"/>
                </a:cubicBezTo>
                <a:cubicBezTo>
                  <a:pt x="1141" y="984"/>
                  <a:pt x="1140" y="994"/>
                  <a:pt x="1136" y="1002"/>
                </a:cubicBezTo>
                <a:cubicBezTo>
                  <a:pt x="1129" y="1016"/>
                  <a:pt x="1109" y="1042"/>
                  <a:pt x="1109" y="1042"/>
                </a:cubicBezTo>
                <a:cubicBezTo>
                  <a:pt x="1098" y="1085"/>
                  <a:pt x="1081" y="1125"/>
                  <a:pt x="1061" y="1164"/>
                </a:cubicBezTo>
                <a:cubicBezTo>
                  <a:pt x="1053" y="1198"/>
                  <a:pt x="1055" y="1182"/>
                  <a:pt x="1055" y="12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708280"/>
            <a:ext cx="2374920" cy="107964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Bucket with a smaller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573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645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3573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357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57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645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350028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50560" y="3500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34920" y="3500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692000" y="3500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476360" y="3500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331640" y="3500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350028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042560" y="350028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716280"/>
            <a:ext cx="1368360" cy="1224000"/>
          </a:xfrm>
          <a:prstGeom prst="can">
            <a:avLst>
              <a:gd name="adj" fmla="val 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653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472428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2364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4724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7640" y="4797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797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18920" y="4724280"/>
            <a:ext cx="730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4724280"/>
            <a:ext cx="1429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619280" y="472428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472428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472428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4724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4653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7240" y="443232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13" y="20"/>
                </a:moveTo>
                <a:cubicBezTo>
                  <a:pt x="18" y="13"/>
                  <a:pt x="19" y="0"/>
                  <a:pt x="27" y="0"/>
                </a:cubicBezTo>
                <a:cubicBezTo>
                  <a:pt x="34" y="0"/>
                  <a:pt x="26" y="17"/>
                  <a:pt x="20" y="20"/>
                </a:cubicBezTo>
                <a:cubicBezTo>
                  <a:pt x="14" y="23"/>
                  <a:pt x="7" y="15"/>
                  <a:pt x="0" y="13"/>
                </a:cubicBezTo>
                <a:cubicBezTo>
                  <a:pt x="25" y="6"/>
                  <a:pt x="23" y="1"/>
                  <a:pt x="13" y="2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47880" y="3909960"/>
            <a:ext cx="1342800" cy="947880"/>
          </a:xfrm>
          <a:custGeom>
            <a:avLst/>
            <a:gdLst/>
            <a:ahLst/>
            <a:rect l="l" t="t" r="r" b="b"/>
            <a:pathLst>
              <a:path w="846" h="597">
                <a:moveTo>
                  <a:pt x="196" y="15"/>
                </a:moveTo>
                <a:cubicBezTo>
                  <a:pt x="120" y="105"/>
                  <a:pt x="45" y="196"/>
                  <a:pt x="60" y="196"/>
                </a:cubicBezTo>
                <a:cubicBezTo>
                  <a:pt x="75" y="196"/>
                  <a:pt x="279" y="8"/>
                  <a:pt x="287" y="15"/>
                </a:cubicBezTo>
                <a:cubicBezTo>
                  <a:pt x="295" y="22"/>
                  <a:pt x="83" y="241"/>
                  <a:pt x="106" y="241"/>
                </a:cubicBezTo>
                <a:cubicBezTo>
                  <a:pt x="129" y="241"/>
                  <a:pt x="408" y="0"/>
                  <a:pt x="423" y="15"/>
                </a:cubicBezTo>
                <a:cubicBezTo>
                  <a:pt x="438" y="30"/>
                  <a:pt x="181" y="325"/>
                  <a:pt x="196" y="332"/>
                </a:cubicBezTo>
                <a:cubicBezTo>
                  <a:pt x="211" y="339"/>
                  <a:pt x="514" y="37"/>
                  <a:pt x="514" y="60"/>
                </a:cubicBezTo>
                <a:cubicBezTo>
                  <a:pt x="514" y="83"/>
                  <a:pt x="181" y="468"/>
                  <a:pt x="196" y="468"/>
                </a:cubicBezTo>
                <a:cubicBezTo>
                  <a:pt x="211" y="468"/>
                  <a:pt x="590" y="60"/>
                  <a:pt x="605" y="60"/>
                </a:cubicBezTo>
                <a:cubicBezTo>
                  <a:pt x="620" y="60"/>
                  <a:pt x="272" y="461"/>
                  <a:pt x="287" y="468"/>
                </a:cubicBezTo>
                <a:cubicBezTo>
                  <a:pt x="302" y="475"/>
                  <a:pt x="672" y="112"/>
                  <a:pt x="695" y="105"/>
                </a:cubicBezTo>
                <a:cubicBezTo>
                  <a:pt x="718" y="98"/>
                  <a:pt x="408" y="408"/>
                  <a:pt x="423" y="423"/>
                </a:cubicBezTo>
                <a:cubicBezTo>
                  <a:pt x="438" y="438"/>
                  <a:pt x="778" y="189"/>
                  <a:pt x="786" y="196"/>
                </a:cubicBezTo>
                <a:cubicBezTo>
                  <a:pt x="794" y="203"/>
                  <a:pt x="575" y="407"/>
                  <a:pt x="469" y="468"/>
                </a:cubicBezTo>
                <a:cubicBezTo>
                  <a:pt x="363" y="529"/>
                  <a:pt x="136" y="544"/>
                  <a:pt x="151" y="559"/>
                </a:cubicBezTo>
                <a:cubicBezTo>
                  <a:pt x="166" y="574"/>
                  <a:pt x="476" y="582"/>
                  <a:pt x="559" y="559"/>
                </a:cubicBezTo>
                <a:cubicBezTo>
                  <a:pt x="642" y="536"/>
                  <a:pt x="718" y="468"/>
                  <a:pt x="650" y="423"/>
                </a:cubicBezTo>
                <a:cubicBezTo>
                  <a:pt x="582" y="378"/>
                  <a:pt x="136" y="302"/>
                  <a:pt x="151" y="287"/>
                </a:cubicBezTo>
                <a:cubicBezTo>
                  <a:pt x="166" y="272"/>
                  <a:pt x="711" y="377"/>
                  <a:pt x="741" y="332"/>
                </a:cubicBezTo>
                <a:cubicBezTo>
                  <a:pt x="771" y="287"/>
                  <a:pt x="341" y="0"/>
                  <a:pt x="333" y="15"/>
                </a:cubicBezTo>
                <a:cubicBezTo>
                  <a:pt x="325" y="30"/>
                  <a:pt x="620" y="423"/>
                  <a:pt x="695" y="423"/>
                </a:cubicBezTo>
                <a:cubicBezTo>
                  <a:pt x="770" y="423"/>
                  <a:pt x="846" y="15"/>
                  <a:pt x="786" y="15"/>
                </a:cubicBezTo>
                <a:cubicBezTo>
                  <a:pt x="726" y="15"/>
                  <a:pt x="446" y="408"/>
                  <a:pt x="333" y="423"/>
                </a:cubicBezTo>
                <a:cubicBezTo>
                  <a:pt x="220" y="438"/>
                  <a:pt x="144" y="105"/>
                  <a:pt x="106" y="105"/>
                </a:cubicBezTo>
                <a:cubicBezTo>
                  <a:pt x="68" y="105"/>
                  <a:pt x="0" y="363"/>
                  <a:pt x="106" y="423"/>
                </a:cubicBezTo>
                <a:cubicBezTo>
                  <a:pt x="212" y="483"/>
                  <a:pt x="703" y="445"/>
                  <a:pt x="741" y="468"/>
                </a:cubicBezTo>
                <a:cubicBezTo>
                  <a:pt x="779" y="491"/>
                  <a:pt x="401" y="597"/>
                  <a:pt x="333" y="559"/>
                </a:cubicBezTo>
                <a:cubicBezTo>
                  <a:pt x="265" y="521"/>
                  <a:pt x="356" y="317"/>
                  <a:pt x="333" y="241"/>
                </a:cubicBezTo>
                <a:cubicBezTo>
                  <a:pt x="310" y="165"/>
                  <a:pt x="189" y="112"/>
                  <a:pt x="196" y="105"/>
                </a:cubicBezTo>
                <a:cubicBezTo>
                  <a:pt x="203" y="98"/>
                  <a:pt x="325" y="166"/>
                  <a:pt x="378" y="196"/>
                </a:cubicBezTo>
                <a:cubicBezTo>
                  <a:pt x="431" y="226"/>
                  <a:pt x="472" y="256"/>
                  <a:pt x="514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49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6165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61657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5661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566100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76360" y="522936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618920" y="5157720"/>
            <a:ext cx="7308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907640" y="515772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01336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5084640"/>
            <a:ext cx="28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79640" y="5805360"/>
            <a:ext cx="475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5805360"/>
            <a:ext cx="468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0920" y="5949720"/>
            <a:ext cx="4249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5734080"/>
            <a:ext cx="460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6021360"/>
            <a:ext cx="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5950080"/>
            <a:ext cx="14472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732720" y="5805360"/>
            <a:ext cx="71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77080" y="5877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5950080"/>
            <a:ext cx="21564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877080" y="5805360"/>
            <a:ext cx="71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2440" y="5127480"/>
            <a:ext cx="757440" cy="968400"/>
          </a:xfrm>
          <a:custGeom>
            <a:avLst/>
            <a:gdLst/>
            <a:ahLst/>
            <a:rect l="l" t="t" r="r" b="b"/>
            <a:pathLst>
              <a:path w="477" h="610">
                <a:moveTo>
                  <a:pt x="370" y="70"/>
                </a:moveTo>
                <a:cubicBezTo>
                  <a:pt x="349" y="40"/>
                  <a:pt x="322" y="33"/>
                  <a:pt x="288" y="23"/>
                </a:cubicBezTo>
                <a:cubicBezTo>
                  <a:pt x="188" y="28"/>
                  <a:pt x="155" y="6"/>
                  <a:pt x="105" y="77"/>
                </a:cubicBezTo>
                <a:cubicBezTo>
                  <a:pt x="96" y="106"/>
                  <a:pt x="78" y="158"/>
                  <a:pt x="105" y="185"/>
                </a:cubicBezTo>
                <a:cubicBezTo>
                  <a:pt x="114" y="194"/>
                  <a:pt x="148" y="205"/>
                  <a:pt x="160" y="206"/>
                </a:cubicBezTo>
                <a:cubicBezTo>
                  <a:pt x="241" y="213"/>
                  <a:pt x="323" y="214"/>
                  <a:pt x="404" y="219"/>
                </a:cubicBezTo>
                <a:cubicBezTo>
                  <a:pt x="420" y="223"/>
                  <a:pt x="471" y="244"/>
                  <a:pt x="438" y="273"/>
                </a:cubicBezTo>
                <a:cubicBezTo>
                  <a:pt x="422" y="287"/>
                  <a:pt x="366" y="291"/>
                  <a:pt x="349" y="294"/>
                </a:cubicBezTo>
                <a:cubicBezTo>
                  <a:pt x="324" y="299"/>
                  <a:pt x="299" y="308"/>
                  <a:pt x="275" y="314"/>
                </a:cubicBezTo>
                <a:cubicBezTo>
                  <a:pt x="251" y="331"/>
                  <a:pt x="236" y="347"/>
                  <a:pt x="227" y="375"/>
                </a:cubicBezTo>
                <a:cubicBezTo>
                  <a:pt x="223" y="389"/>
                  <a:pt x="218" y="402"/>
                  <a:pt x="214" y="416"/>
                </a:cubicBezTo>
                <a:cubicBezTo>
                  <a:pt x="212" y="423"/>
                  <a:pt x="207" y="436"/>
                  <a:pt x="207" y="436"/>
                </a:cubicBezTo>
                <a:cubicBezTo>
                  <a:pt x="222" y="479"/>
                  <a:pt x="265" y="466"/>
                  <a:pt x="309" y="470"/>
                </a:cubicBezTo>
                <a:cubicBezTo>
                  <a:pt x="319" y="474"/>
                  <a:pt x="343" y="480"/>
                  <a:pt x="349" y="490"/>
                </a:cubicBezTo>
                <a:cubicBezTo>
                  <a:pt x="356" y="501"/>
                  <a:pt x="360" y="540"/>
                  <a:pt x="377" y="551"/>
                </a:cubicBezTo>
                <a:cubicBezTo>
                  <a:pt x="389" y="559"/>
                  <a:pt x="417" y="565"/>
                  <a:pt x="417" y="565"/>
                </a:cubicBezTo>
                <a:cubicBezTo>
                  <a:pt x="401" y="610"/>
                  <a:pt x="416" y="589"/>
                  <a:pt x="329" y="578"/>
                </a:cubicBezTo>
                <a:cubicBezTo>
                  <a:pt x="290" y="573"/>
                  <a:pt x="246" y="552"/>
                  <a:pt x="214" y="531"/>
                </a:cubicBezTo>
                <a:cubicBezTo>
                  <a:pt x="209" y="517"/>
                  <a:pt x="195" y="505"/>
                  <a:pt x="194" y="490"/>
                </a:cubicBezTo>
                <a:cubicBezTo>
                  <a:pt x="189" y="416"/>
                  <a:pt x="238" y="233"/>
                  <a:pt x="139" y="172"/>
                </a:cubicBezTo>
                <a:cubicBezTo>
                  <a:pt x="130" y="157"/>
                  <a:pt x="88" y="111"/>
                  <a:pt x="72" y="104"/>
                </a:cubicBezTo>
                <a:cubicBezTo>
                  <a:pt x="59" y="98"/>
                  <a:pt x="31" y="90"/>
                  <a:pt x="31" y="90"/>
                </a:cubicBezTo>
                <a:cubicBezTo>
                  <a:pt x="17" y="144"/>
                  <a:pt x="0" y="195"/>
                  <a:pt x="45" y="240"/>
                </a:cubicBezTo>
                <a:cubicBezTo>
                  <a:pt x="58" y="283"/>
                  <a:pt x="85" y="332"/>
                  <a:pt x="112" y="368"/>
                </a:cubicBezTo>
                <a:cubicBezTo>
                  <a:pt x="124" y="403"/>
                  <a:pt x="125" y="445"/>
                  <a:pt x="146" y="477"/>
                </a:cubicBezTo>
                <a:cubicBezTo>
                  <a:pt x="159" y="496"/>
                  <a:pt x="207" y="511"/>
                  <a:pt x="207" y="511"/>
                </a:cubicBezTo>
                <a:cubicBezTo>
                  <a:pt x="223" y="509"/>
                  <a:pt x="240" y="510"/>
                  <a:pt x="255" y="504"/>
                </a:cubicBezTo>
                <a:cubicBezTo>
                  <a:pt x="290" y="490"/>
                  <a:pt x="312" y="422"/>
                  <a:pt x="322" y="389"/>
                </a:cubicBezTo>
                <a:cubicBezTo>
                  <a:pt x="322" y="379"/>
                  <a:pt x="280" y="75"/>
                  <a:pt x="390" y="36"/>
                </a:cubicBezTo>
                <a:cubicBezTo>
                  <a:pt x="415" y="0"/>
                  <a:pt x="425" y="17"/>
                  <a:pt x="451" y="43"/>
                </a:cubicBezTo>
                <a:cubicBezTo>
                  <a:pt x="461" y="242"/>
                  <a:pt x="477" y="201"/>
                  <a:pt x="465" y="450"/>
                </a:cubicBezTo>
                <a:cubicBezTo>
                  <a:pt x="464" y="466"/>
                  <a:pt x="467" y="497"/>
                  <a:pt x="451" y="497"/>
                </a:cubicBezTo>
                <a:cubicBezTo>
                  <a:pt x="444" y="497"/>
                  <a:pt x="451" y="484"/>
                  <a:pt x="451" y="4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43280" y="5734080"/>
            <a:ext cx="5052960" cy="1155600"/>
          </a:xfrm>
          <a:custGeom>
            <a:avLst/>
            <a:gdLst/>
            <a:ahLst/>
            <a:rect l="l" t="t" r="r" b="b"/>
            <a:pathLst>
              <a:path w="3183" h="728">
                <a:moveTo>
                  <a:pt x="16" y="68"/>
                </a:moveTo>
                <a:cubicBezTo>
                  <a:pt x="54" y="122"/>
                  <a:pt x="0" y="49"/>
                  <a:pt x="57" y="108"/>
                </a:cubicBezTo>
                <a:cubicBezTo>
                  <a:pt x="63" y="114"/>
                  <a:pt x="65" y="123"/>
                  <a:pt x="70" y="129"/>
                </a:cubicBezTo>
                <a:cubicBezTo>
                  <a:pt x="78" y="139"/>
                  <a:pt x="87" y="148"/>
                  <a:pt x="97" y="156"/>
                </a:cubicBezTo>
                <a:cubicBezTo>
                  <a:pt x="116" y="172"/>
                  <a:pt x="144" y="179"/>
                  <a:pt x="165" y="190"/>
                </a:cubicBezTo>
                <a:cubicBezTo>
                  <a:pt x="224" y="188"/>
                  <a:pt x="283" y="192"/>
                  <a:pt x="341" y="183"/>
                </a:cubicBezTo>
                <a:cubicBezTo>
                  <a:pt x="349" y="182"/>
                  <a:pt x="348" y="167"/>
                  <a:pt x="355" y="162"/>
                </a:cubicBezTo>
                <a:cubicBezTo>
                  <a:pt x="360" y="158"/>
                  <a:pt x="368" y="158"/>
                  <a:pt x="375" y="156"/>
                </a:cubicBezTo>
                <a:cubicBezTo>
                  <a:pt x="409" y="122"/>
                  <a:pt x="444" y="112"/>
                  <a:pt x="490" y="102"/>
                </a:cubicBezTo>
                <a:cubicBezTo>
                  <a:pt x="536" y="108"/>
                  <a:pt x="580" y="120"/>
                  <a:pt x="626" y="129"/>
                </a:cubicBezTo>
                <a:cubicBezTo>
                  <a:pt x="1078" y="119"/>
                  <a:pt x="1529" y="133"/>
                  <a:pt x="1981" y="142"/>
                </a:cubicBezTo>
                <a:cubicBezTo>
                  <a:pt x="2016" y="160"/>
                  <a:pt x="2096" y="169"/>
                  <a:pt x="2096" y="169"/>
                </a:cubicBezTo>
                <a:cubicBezTo>
                  <a:pt x="2252" y="167"/>
                  <a:pt x="2408" y="166"/>
                  <a:pt x="2564" y="162"/>
                </a:cubicBezTo>
                <a:cubicBezTo>
                  <a:pt x="2583" y="162"/>
                  <a:pt x="2618" y="136"/>
                  <a:pt x="2625" y="129"/>
                </a:cubicBezTo>
                <a:cubicBezTo>
                  <a:pt x="2639" y="115"/>
                  <a:pt x="2666" y="88"/>
                  <a:pt x="2666" y="88"/>
                </a:cubicBezTo>
                <a:cubicBezTo>
                  <a:pt x="2657" y="30"/>
                  <a:pt x="2652" y="19"/>
                  <a:pt x="2598" y="0"/>
                </a:cubicBezTo>
                <a:cubicBezTo>
                  <a:pt x="2560" y="2"/>
                  <a:pt x="2521" y="2"/>
                  <a:pt x="2483" y="7"/>
                </a:cubicBezTo>
                <a:cubicBezTo>
                  <a:pt x="2473" y="8"/>
                  <a:pt x="2465" y="16"/>
                  <a:pt x="2456" y="20"/>
                </a:cubicBezTo>
                <a:cubicBezTo>
                  <a:pt x="2410" y="38"/>
                  <a:pt x="2375" y="46"/>
                  <a:pt x="2327" y="54"/>
                </a:cubicBezTo>
                <a:cubicBezTo>
                  <a:pt x="2304" y="66"/>
                  <a:pt x="2283" y="79"/>
                  <a:pt x="2259" y="88"/>
                </a:cubicBezTo>
                <a:cubicBezTo>
                  <a:pt x="2199" y="133"/>
                  <a:pt x="2227" y="123"/>
                  <a:pt x="2185" y="135"/>
                </a:cubicBezTo>
                <a:cubicBezTo>
                  <a:pt x="2141" y="165"/>
                  <a:pt x="2095" y="189"/>
                  <a:pt x="2042" y="196"/>
                </a:cubicBezTo>
                <a:cubicBezTo>
                  <a:pt x="2001" y="210"/>
                  <a:pt x="1979" y="209"/>
                  <a:pt x="1934" y="203"/>
                </a:cubicBezTo>
                <a:cubicBezTo>
                  <a:pt x="1874" y="182"/>
                  <a:pt x="1800" y="182"/>
                  <a:pt x="1737" y="176"/>
                </a:cubicBezTo>
                <a:cubicBezTo>
                  <a:pt x="1663" y="169"/>
                  <a:pt x="1595" y="160"/>
                  <a:pt x="1520" y="156"/>
                </a:cubicBezTo>
                <a:cubicBezTo>
                  <a:pt x="1475" y="144"/>
                  <a:pt x="1442" y="115"/>
                  <a:pt x="1398" y="102"/>
                </a:cubicBezTo>
                <a:cubicBezTo>
                  <a:pt x="1348" y="63"/>
                  <a:pt x="1288" y="55"/>
                  <a:pt x="1229" y="34"/>
                </a:cubicBezTo>
                <a:cubicBezTo>
                  <a:pt x="1112" y="43"/>
                  <a:pt x="1001" y="62"/>
                  <a:pt x="883" y="68"/>
                </a:cubicBezTo>
                <a:cubicBezTo>
                  <a:pt x="857" y="76"/>
                  <a:pt x="828" y="73"/>
                  <a:pt x="802" y="81"/>
                </a:cubicBezTo>
                <a:cubicBezTo>
                  <a:pt x="791" y="84"/>
                  <a:pt x="785" y="96"/>
                  <a:pt x="775" y="102"/>
                </a:cubicBezTo>
                <a:cubicBezTo>
                  <a:pt x="754" y="115"/>
                  <a:pt x="744" y="116"/>
                  <a:pt x="721" y="122"/>
                </a:cubicBezTo>
                <a:cubicBezTo>
                  <a:pt x="677" y="151"/>
                  <a:pt x="632" y="151"/>
                  <a:pt x="585" y="169"/>
                </a:cubicBezTo>
                <a:cubicBezTo>
                  <a:pt x="521" y="194"/>
                  <a:pt x="598" y="175"/>
                  <a:pt x="524" y="190"/>
                </a:cubicBezTo>
                <a:cubicBezTo>
                  <a:pt x="499" y="188"/>
                  <a:pt x="474" y="190"/>
                  <a:pt x="450" y="183"/>
                </a:cubicBezTo>
                <a:cubicBezTo>
                  <a:pt x="434" y="178"/>
                  <a:pt x="424" y="161"/>
                  <a:pt x="409" y="156"/>
                </a:cubicBezTo>
                <a:cubicBezTo>
                  <a:pt x="376" y="144"/>
                  <a:pt x="338" y="121"/>
                  <a:pt x="307" y="102"/>
                </a:cubicBezTo>
                <a:cubicBezTo>
                  <a:pt x="288" y="72"/>
                  <a:pt x="275" y="46"/>
                  <a:pt x="246" y="27"/>
                </a:cubicBezTo>
                <a:cubicBezTo>
                  <a:pt x="176" y="34"/>
                  <a:pt x="173" y="26"/>
                  <a:pt x="131" y="68"/>
                </a:cubicBezTo>
                <a:cubicBezTo>
                  <a:pt x="127" y="81"/>
                  <a:pt x="118" y="94"/>
                  <a:pt x="118" y="108"/>
                </a:cubicBezTo>
                <a:cubicBezTo>
                  <a:pt x="118" y="177"/>
                  <a:pt x="189" y="184"/>
                  <a:pt x="240" y="190"/>
                </a:cubicBezTo>
                <a:cubicBezTo>
                  <a:pt x="260" y="188"/>
                  <a:pt x="281" y="189"/>
                  <a:pt x="301" y="183"/>
                </a:cubicBezTo>
                <a:cubicBezTo>
                  <a:pt x="327" y="175"/>
                  <a:pt x="345" y="150"/>
                  <a:pt x="368" y="135"/>
                </a:cubicBezTo>
                <a:cubicBezTo>
                  <a:pt x="382" y="125"/>
                  <a:pt x="401" y="124"/>
                  <a:pt x="416" y="115"/>
                </a:cubicBezTo>
                <a:cubicBezTo>
                  <a:pt x="445" y="97"/>
                  <a:pt x="463" y="83"/>
                  <a:pt x="497" y="74"/>
                </a:cubicBezTo>
                <a:cubicBezTo>
                  <a:pt x="570" y="80"/>
                  <a:pt x="642" y="103"/>
                  <a:pt x="714" y="108"/>
                </a:cubicBezTo>
                <a:cubicBezTo>
                  <a:pt x="773" y="112"/>
                  <a:pt x="831" y="113"/>
                  <a:pt x="890" y="115"/>
                </a:cubicBezTo>
                <a:cubicBezTo>
                  <a:pt x="926" y="127"/>
                  <a:pt x="958" y="147"/>
                  <a:pt x="992" y="162"/>
                </a:cubicBezTo>
                <a:cubicBezTo>
                  <a:pt x="1018" y="173"/>
                  <a:pt x="1046" y="180"/>
                  <a:pt x="1073" y="190"/>
                </a:cubicBezTo>
                <a:cubicBezTo>
                  <a:pt x="1082" y="193"/>
                  <a:pt x="1091" y="200"/>
                  <a:pt x="1100" y="203"/>
                </a:cubicBezTo>
                <a:cubicBezTo>
                  <a:pt x="1118" y="209"/>
                  <a:pt x="1155" y="217"/>
                  <a:pt x="1155" y="217"/>
                </a:cubicBezTo>
                <a:cubicBezTo>
                  <a:pt x="1193" y="215"/>
                  <a:pt x="1232" y="218"/>
                  <a:pt x="1270" y="210"/>
                </a:cubicBezTo>
                <a:cubicBezTo>
                  <a:pt x="1286" y="207"/>
                  <a:pt x="1310" y="183"/>
                  <a:pt x="1310" y="183"/>
                </a:cubicBezTo>
                <a:cubicBezTo>
                  <a:pt x="1331" y="120"/>
                  <a:pt x="1389" y="101"/>
                  <a:pt x="1446" y="81"/>
                </a:cubicBezTo>
                <a:cubicBezTo>
                  <a:pt x="1466" y="83"/>
                  <a:pt x="1487" y="83"/>
                  <a:pt x="1507" y="88"/>
                </a:cubicBezTo>
                <a:cubicBezTo>
                  <a:pt x="1542" y="97"/>
                  <a:pt x="1557" y="146"/>
                  <a:pt x="1588" y="162"/>
                </a:cubicBezTo>
                <a:cubicBezTo>
                  <a:pt x="1651" y="194"/>
                  <a:pt x="1715" y="202"/>
                  <a:pt x="1785" y="210"/>
                </a:cubicBezTo>
                <a:cubicBezTo>
                  <a:pt x="1887" y="203"/>
                  <a:pt x="1988" y="199"/>
                  <a:pt x="2090" y="190"/>
                </a:cubicBezTo>
                <a:cubicBezTo>
                  <a:pt x="2125" y="183"/>
                  <a:pt x="2157" y="169"/>
                  <a:pt x="2191" y="162"/>
                </a:cubicBezTo>
                <a:cubicBezTo>
                  <a:pt x="2275" y="144"/>
                  <a:pt x="2360" y="127"/>
                  <a:pt x="2442" y="102"/>
                </a:cubicBezTo>
                <a:cubicBezTo>
                  <a:pt x="2561" y="105"/>
                  <a:pt x="2685" y="78"/>
                  <a:pt x="2788" y="142"/>
                </a:cubicBezTo>
                <a:cubicBezTo>
                  <a:pt x="2820" y="248"/>
                  <a:pt x="2754" y="220"/>
                  <a:pt x="2916" y="210"/>
                </a:cubicBezTo>
                <a:cubicBezTo>
                  <a:pt x="2924" y="186"/>
                  <a:pt x="2921" y="187"/>
                  <a:pt x="2944" y="169"/>
                </a:cubicBezTo>
                <a:cubicBezTo>
                  <a:pt x="2957" y="159"/>
                  <a:pt x="2984" y="142"/>
                  <a:pt x="2984" y="142"/>
                </a:cubicBezTo>
                <a:cubicBezTo>
                  <a:pt x="2989" y="135"/>
                  <a:pt x="2991" y="126"/>
                  <a:pt x="2998" y="122"/>
                </a:cubicBezTo>
                <a:cubicBezTo>
                  <a:pt x="3010" y="114"/>
                  <a:pt x="3038" y="108"/>
                  <a:pt x="3038" y="108"/>
                </a:cubicBezTo>
                <a:cubicBezTo>
                  <a:pt x="3096" y="115"/>
                  <a:pt x="3121" y="124"/>
                  <a:pt x="3167" y="156"/>
                </a:cubicBezTo>
                <a:cubicBezTo>
                  <a:pt x="3177" y="185"/>
                  <a:pt x="3161" y="228"/>
                  <a:pt x="3140" y="251"/>
                </a:cubicBezTo>
                <a:cubicBezTo>
                  <a:pt x="3127" y="265"/>
                  <a:pt x="3099" y="291"/>
                  <a:pt x="3099" y="291"/>
                </a:cubicBezTo>
                <a:cubicBezTo>
                  <a:pt x="3086" y="319"/>
                  <a:pt x="3078" y="335"/>
                  <a:pt x="3052" y="352"/>
                </a:cubicBezTo>
                <a:cubicBezTo>
                  <a:pt x="3037" y="398"/>
                  <a:pt x="3030" y="451"/>
                  <a:pt x="3072" y="481"/>
                </a:cubicBezTo>
                <a:cubicBezTo>
                  <a:pt x="3088" y="504"/>
                  <a:pt x="3093" y="522"/>
                  <a:pt x="3113" y="542"/>
                </a:cubicBezTo>
                <a:cubicBezTo>
                  <a:pt x="3136" y="608"/>
                  <a:pt x="3069" y="640"/>
                  <a:pt x="3025" y="671"/>
                </a:cubicBezTo>
                <a:cubicBezTo>
                  <a:pt x="3027" y="687"/>
                  <a:pt x="3017" y="712"/>
                  <a:pt x="3032" y="718"/>
                </a:cubicBezTo>
                <a:cubicBezTo>
                  <a:pt x="3054" y="728"/>
                  <a:pt x="3072" y="691"/>
                  <a:pt x="3093" y="678"/>
                </a:cubicBezTo>
                <a:cubicBezTo>
                  <a:pt x="3183" y="532"/>
                  <a:pt x="3107" y="454"/>
                  <a:pt x="3032" y="366"/>
                </a:cubicBezTo>
                <a:cubicBezTo>
                  <a:pt x="2982" y="307"/>
                  <a:pt x="3048" y="380"/>
                  <a:pt x="3011" y="325"/>
                </a:cubicBezTo>
                <a:cubicBezTo>
                  <a:pt x="3006" y="317"/>
                  <a:pt x="2997" y="312"/>
                  <a:pt x="2991" y="305"/>
                </a:cubicBezTo>
                <a:cubicBezTo>
                  <a:pt x="2986" y="299"/>
                  <a:pt x="2982" y="291"/>
                  <a:pt x="2977" y="284"/>
                </a:cubicBezTo>
                <a:cubicBezTo>
                  <a:pt x="2966" y="233"/>
                  <a:pt x="2975" y="184"/>
                  <a:pt x="3005" y="142"/>
                </a:cubicBezTo>
                <a:cubicBezTo>
                  <a:pt x="3013" y="114"/>
                  <a:pt x="3025" y="104"/>
                  <a:pt x="3052" y="95"/>
                </a:cubicBezTo>
                <a:cubicBezTo>
                  <a:pt x="3059" y="99"/>
                  <a:pt x="3065" y="104"/>
                  <a:pt x="3072" y="108"/>
                </a:cubicBezTo>
                <a:cubicBezTo>
                  <a:pt x="3080" y="113"/>
                  <a:pt x="3061" y="91"/>
                  <a:pt x="3052" y="88"/>
                </a:cubicBezTo>
                <a:cubicBezTo>
                  <a:pt x="3038" y="83"/>
                  <a:pt x="3025" y="77"/>
                  <a:pt x="3011" y="74"/>
                </a:cubicBezTo>
                <a:cubicBezTo>
                  <a:pt x="2986" y="68"/>
                  <a:pt x="2962" y="60"/>
                  <a:pt x="2937" y="54"/>
                </a:cubicBezTo>
                <a:cubicBezTo>
                  <a:pt x="2875" y="59"/>
                  <a:pt x="2852" y="52"/>
                  <a:pt x="2808" y="81"/>
                </a:cubicBezTo>
                <a:cubicBezTo>
                  <a:pt x="2810" y="99"/>
                  <a:pt x="2808" y="118"/>
                  <a:pt x="2815" y="135"/>
                </a:cubicBezTo>
                <a:cubicBezTo>
                  <a:pt x="2818" y="142"/>
                  <a:pt x="2888" y="161"/>
                  <a:pt x="2896" y="162"/>
                </a:cubicBezTo>
                <a:cubicBezTo>
                  <a:pt x="2936" y="178"/>
                  <a:pt x="2974" y="173"/>
                  <a:pt x="3005" y="203"/>
                </a:cubicBezTo>
                <a:cubicBezTo>
                  <a:pt x="3002" y="309"/>
                  <a:pt x="3040" y="398"/>
                  <a:pt x="2971" y="467"/>
                </a:cubicBezTo>
                <a:cubicBezTo>
                  <a:pt x="2957" y="524"/>
                  <a:pt x="2951" y="587"/>
                  <a:pt x="2984" y="637"/>
                </a:cubicBezTo>
                <a:cubicBezTo>
                  <a:pt x="3059" y="628"/>
                  <a:pt x="3128" y="622"/>
                  <a:pt x="3174" y="556"/>
                </a:cubicBezTo>
                <a:cubicBezTo>
                  <a:pt x="3169" y="485"/>
                  <a:pt x="3177" y="458"/>
                  <a:pt x="3140" y="406"/>
                </a:cubicBezTo>
                <a:cubicBezTo>
                  <a:pt x="3133" y="386"/>
                  <a:pt x="3129" y="364"/>
                  <a:pt x="3120" y="345"/>
                </a:cubicBezTo>
                <a:cubicBezTo>
                  <a:pt x="3088" y="280"/>
                  <a:pt x="3006" y="253"/>
                  <a:pt x="2944" y="230"/>
                </a:cubicBezTo>
                <a:cubicBezTo>
                  <a:pt x="2878" y="205"/>
                  <a:pt x="2944" y="227"/>
                  <a:pt x="2869" y="210"/>
                </a:cubicBezTo>
                <a:cubicBezTo>
                  <a:pt x="2851" y="206"/>
                  <a:pt x="2815" y="196"/>
                  <a:pt x="2815" y="196"/>
                </a:cubicBezTo>
                <a:cubicBezTo>
                  <a:pt x="2781" y="148"/>
                  <a:pt x="2721" y="122"/>
                  <a:pt x="2666" y="108"/>
                </a:cubicBezTo>
                <a:cubicBezTo>
                  <a:pt x="2556" y="114"/>
                  <a:pt x="2455" y="132"/>
                  <a:pt x="2347" y="142"/>
                </a:cubicBezTo>
                <a:cubicBezTo>
                  <a:pt x="2308" y="150"/>
                  <a:pt x="2264" y="156"/>
                  <a:pt x="2225" y="169"/>
                </a:cubicBezTo>
                <a:cubicBezTo>
                  <a:pt x="1992" y="160"/>
                  <a:pt x="2091" y="170"/>
                  <a:pt x="1954" y="129"/>
                </a:cubicBezTo>
                <a:cubicBezTo>
                  <a:pt x="1908" y="98"/>
                  <a:pt x="1929" y="107"/>
                  <a:pt x="1893" y="95"/>
                </a:cubicBezTo>
                <a:cubicBezTo>
                  <a:pt x="1839" y="57"/>
                  <a:pt x="1761" y="47"/>
                  <a:pt x="1697" y="41"/>
                </a:cubicBezTo>
                <a:cubicBezTo>
                  <a:pt x="1616" y="14"/>
                  <a:pt x="1504" y="19"/>
                  <a:pt x="1419" y="13"/>
                </a:cubicBezTo>
                <a:cubicBezTo>
                  <a:pt x="1350" y="23"/>
                  <a:pt x="1305" y="60"/>
                  <a:pt x="1249" y="102"/>
                </a:cubicBezTo>
                <a:cubicBezTo>
                  <a:pt x="1232" y="115"/>
                  <a:pt x="1213" y="124"/>
                  <a:pt x="1195" y="135"/>
                </a:cubicBezTo>
                <a:cubicBezTo>
                  <a:pt x="1148" y="164"/>
                  <a:pt x="1187" y="146"/>
                  <a:pt x="1148" y="176"/>
                </a:cubicBezTo>
                <a:cubicBezTo>
                  <a:pt x="1123" y="195"/>
                  <a:pt x="1093" y="213"/>
                  <a:pt x="1066" y="230"/>
                </a:cubicBezTo>
                <a:cubicBezTo>
                  <a:pt x="1025" y="228"/>
                  <a:pt x="984" y="229"/>
                  <a:pt x="944" y="223"/>
                </a:cubicBezTo>
                <a:cubicBezTo>
                  <a:pt x="926" y="220"/>
                  <a:pt x="914" y="203"/>
                  <a:pt x="897" y="196"/>
                </a:cubicBezTo>
                <a:cubicBezTo>
                  <a:pt x="846" y="174"/>
                  <a:pt x="793" y="156"/>
                  <a:pt x="741" y="135"/>
                </a:cubicBezTo>
                <a:cubicBezTo>
                  <a:pt x="717" y="125"/>
                  <a:pt x="699" y="109"/>
                  <a:pt x="673" y="102"/>
                </a:cubicBezTo>
                <a:cubicBezTo>
                  <a:pt x="621" y="69"/>
                  <a:pt x="558" y="52"/>
                  <a:pt x="497" y="41"/>
                </a:cubicBezTo>
                <a:cubicBezTo>
                  <a:pt x="413" y="43"/>
                  <a:pt x="330" y="43"/>
                  <a:pt x="246" y="47"/>
                </a:cubicBezTo>
                <a:cubicBezTo>
                  <a:pt x="210" y="49"/>
                  <a:pt x="183" y="88"/>
                  <a:pt x="152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365720"/>
            <a:ext cx="6804000" cy="50328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76720" y="3141720"/>
            <a:ext cx="31716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rt and manure are transported to a factory to get sold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3068640"/>
            <a:ext cx="6516720" cy="43164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16360" y="3213000"/>
            <a:ext cx="39621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rt and manure are transported to a factory to get sold.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27280" y="3789360"/>
            <a:ext cx="590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is is a new and fantastic design that transports chemicals to a factory that uses it for energy.</a:t>
            </a:r>
            <a:endParaRPr b="0" lang="en-US" sz="1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407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280" y="4076640"/>
            <a:ext cx="136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5640" y="6308640"/>
            <a:ext cx="52275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s water is now filtered and ready to flow to the ocean !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3387600" y="1139760"/>
            <a:ext cx="959040" cy="1243080"/>
          </a:xfrm>
          <a:custGeom>
            <a:avLst/>
            <a:gdLst/>
            <a:ahLst/>
            <a:rect l="l" t="t" r="r" b="b"/>
            <a:pathLst>
              <a:path w="604" h="783">
                <a:moveTo>
                  <a:pt x="407" y="95"/>
                </a:moveTo>
                <a:cubicBezTo>
                  <a:pt x="394" y="57"/>
                  <a:pt x="382" y="51"/>
                  <a:pt x="346" y="27"/>
                </a:cubicBezTo>
                <a:cubicBezTo>
                  <a:pt x="333" y="18"/>
                  <a:pt x="306" y="0"/>
                  <a:pt x="306" y="0"/>
                </a:cubicBezTo>
                <a:cubicBezTo>
                  <a:pt x="176" y="8"/>
                  <a:pt x="188" y="3"/>
                  <a:pt x="95" y="61"/>
                </a:cubicBezTo>
                <a:cubicBezTo>
                  <a:pt x="81" y="109"/>
                  <a:pt x="101" y="53"/>
                  <a:pt x="68" y="102"/>
                </a:cubicBezTo>
                <a:cubicBezTo>
                  <a:pt x="55" y="122"/>
                  <a:pt x="48" y="149"/>
                  <a:pt x="34" y="170"/>
                </a:cubicBezTo>
                <a:cubicBezTo>
                  <a:pt x="25" y="213"/>
                  <a:pt x="0" y="284"/>
                  <a:pt x="34" y="319"/>
                </a:cubicBezTo>
                <a:cubicBezTo>
                  <a:pt x="39" y="324"/>
                  <a:pt x="49" y="322"/>
                  <a:pt x="55" y="326"/>
                </a:cubicBezTo>
                <a:cubicBezTo>
                  <a:pt x="93" y="347"/>
                  <a:pt x="115" y="358"/>
                  <a:pt x="156" y="373"/>
                </a:cubicBezTo>
                <a:cubicBezTo>
                  <a:pt x="281" y="421"/>
                  <a:pt x="332" y="402"/>
                  <a:pt x="509" y="407"/>
                </a:cubicBezTo>
                <a:cubicBezTo>
                  <a:pt x="539" y="418"/>
                  <a:pt x="564" y="430"/>
                  <a:pt x="590" y="448"/>
                </a:cubicBezTo>
                <a:cubicBezTo>
                  <a:pt x="592" y="457"/>
                  <a:pt x="597" y="466"/>
                  <a:pt x="597" y="475"/>
                </a:cubicBezTo>
                <a:cubicBezTo>
                  <a:pt x="597" y="515"/>
                  <a:pt x="604" y="679"/>
                  <a:pt x="543" y="719"/>
                </a:cubicBezTo>
                <a:cubicBezTo>
                  <a:pt x="531" y="727"/>
                  <a:pt x="516" y="727"/>
                  <a:pt x="502" y="732"/>
                </a:cubicBezTo>
                <a:cubicBezTo>
                  <a:pt x="149" y="724"/>
                  <a:pt x="263" y="783"/>
                  <a:pt x="129" y="6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2840" y="925560"/>
            <a:ext cx="441360" cy="1171440"/>
          </a:xfrm>
          <a:custGeom>
            <a:avLst/>
            <a:gdLst/>
            <a:ahLst/>
            <a:rect l="l" t="t" r="r" b="b"/>
            <a:pathLst>
              <a:path w="278" h="738">
                <a:moveTo>
                  <a:pt x="0" y="0"/>
                </a:moveTo>
                <a:cubicBezTo>
                  <a:pt x="18" y="51"/>
                  <a:pt x="6" y="29"/>
                  <a:pt x="34" y="68"/>
                </a:cubicBezTo>
                <a:cubicBezTo>
                  <a:pt x="47" y="106"/>
                  <a:pt x="55" y="144"/>
                  <a:pt x="68" y="183"/>
                </a:cubicBezTo>
                <a:cubicBezTo>
                  <a:pt x="72" y="196"/>
                  <a:pt x="82" y="223"/>
                  <a:pt x="82" y="223"/>
                </a:cubicBezTo>
                <a:cubicBezTo>
                  <a:pt x="88" y="256"/>
                  <a:pt x="87" y="302"/>
                  <a:pt x="102" y="332"/>
                </a:cubicBezTo>
                <a:cubicBezTo>
                  <a:pt x="109" y="346"/>
                  <a:pt x="120" y="359"/>
                  <a:pt x="129" y="372"/>
                </a:cubicBezTo>
                <a:cubicBezTo>
                  <a:pt x="146" y="397"/>
                  <a:pt x="163" y="460"/>
                  <a:pt x="170" y="488"/>
                </a:cubicBezTo>
                <a:cubicBezTo>
                  <a:pt x="176" y="510"/>
                  <a:pt x="190" y="527"/>
                  <a:pt x="197" y="549"/>
                </a:cubicBezTo>
                <a:cubicBezTo>
                  <a:pt x="202" y="595"/>
                  <a:pt x="212" y="738"/>
                  <a:pt x="278" y="7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92640" y="1279440"/>
            <a:ext cx="441360" cy="130320"/>
          </a:xfrm>
          <a:custGeom>
            <a:avLst/>
            <a:gdLst/>
            <a:ahLst/>
            <a:rect l="l" t="t" r="r" b="b"/>
            <a:pathLst>
              <a:path w="278" h="82">
                <a:moveTo>
                  <a:pt x="0" y="82"/>
                </a:moveTo>
                <a:cubicBezTo>
                  <a:pt x="69" y="58"/>
                  <a:pt x="108" y="65"/>
                  <a:pt x="196" y="61"/>
                </a:cubicBezTo>
                <a:cubicBezTo>
                  <a:pt x="238" y="49"/>
                  <a:pt x="199" y="65"/>
                  <a:pt x="230" y="34"/>
                </a:cubicBezTo>
                <a:cubicBezTo>
                  <a:pt x="244" y="20"/>
                  <a:pt x="264" y="14"/>
                  <a:pt x="2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81680" y="1076400"/>
            <a:ext cx="792000" cy="720720"/>
          </a:xfrm>
          <a:custGeom>
            <a:avLst/>
            <a:gdLst/>
            <a:ahLst/>
            <a:rect l="l" t="t" r="r" b="b"/>
            <a:pathLst>
              <a:path w="499" h="454">
                <a:moveTo>
                  <a:pt x="88" y="210"/>
                </a:moveTo>
                <a:cubicBezTo>
                  <a:pt x="162" y="158"/>
                  <a:pt x="224" y="186"/>
                  <a:pt x="332" y="183"/>
                </a:cubicBezTo>
                <a:cubicBezTo>
                  <a:pt x="352" y="169"/>
                  <a:pt x="372" y="162"/>
                  <a:pt x="393" y="149"/>
                </a:cubicBezTo>
                <a:cubicBezTo>
                  <a:pt x="397" y="142"/>
                  <a:pt x="405" y="136"/>
                  <a:pt x="406" y="128"/>
                </a:cubicBezTo>
                <a:cubicBezTo>
                  <a:pt x="407" y="121"/>
                  <a:pt x="403" y="114"/>
                  <a:pt x="399" y="108"/>
                </a:cubicBezTo>
                <a:cubicBezTo>
                  <a:pt x="391" y="98"/>
                  <a:pt x="317" y="23"/>
                  <a:pt x="298" y="13"/>
                </a:cubicBezTo>
                <a:cubicBezTo>
                  <a:pt x="285" y="6"/>
                  <a:pt x="257" y="0"/>
                  <a:pt x="257" y="0"/>
                </a:cubicBezTo>
                <a:cubicBezTo>
                  <a:pt x="178" y="5"/>
                  <a:pt x="100" y="16"/>
                  <a:pt x="33" y="61"/>
                </a:cubicBezTo>
                <a:cubicBezTo>
                  <a:pt x="19" y="83"/>
                  <a:pt x="7" y="103"/>
                  <a:pt x="0" y="128"/>
                </a:cubicBezTo>
                <a:cubicBezTo>
                  <a:pt x="2" y="161"/>
                  <a:pt x="1" y="248"/>
                  <a:pt x="27" y="284"/>
                </a:cubicBezTo>
                <a:cubicBezTo>
                  <a:pt x="70" y="342"/>
                  <a:pt x="187" y="440"/>
                  <a:pt x="257" y="454"/>
                </a:cubicBezTo>
                <a:cubicBezTo>
                  <a:pt x="309" y="452"/>
                  <a:pt x="361" y="451"/>
                  <a:pt x="413" y="447"/>
                </a:cubicBezTo>
                <a:cubicBezTo>
                  <a:pt x="420" y="446"/>
                  <a:pt x="489" y="436"/>
                  <a:pt x="494" y="427"/>
                </a:cubicBezTo>
                <a:cubicBezTo>
                  <a:pt x="499" y="417"/>
                  <a:pt x="494" y="404"/>
                  <a:pt x="494" y="3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08600" y="914400"/>
            <a:ext cx="744480" cy="1463760"/>
          </a:xfrm>
          <a:custGeom>
            <a:avLst/>
            <a:gdLst/>
            <a:ahLst/>
            <a:rect l="l" t="t" r="r" b="b"/>
            <a:pathLst>
              <a:path w="469" h="922">
                <a:moveTo>
                  <a:pt x="0" y="14"/>
                </a:moveTo>
                <a:cubicBezTo>
                  <a:pt x="12" y="70"/>
                  <a:pt x="56" y="128"/>
                  <a:pt x="88" y="176"/>
                </a:cubicBezTo>
                <a:cubicBezTo>
                  <a:pt x="97" y="190"/>
                  <a:pt x="106" y="203"/>
                  <a:pt x="115" y="217"/>
                </a:cubicBezTo>
                <a:cubicBezTo>
                  <a:pt x="120" y="224"/>
                  <a:pt x="129" y="237"/>
                  <a:pt x="129" y="237"/>
                </a:cubicBezTo>
                <a:cubicBezTo>
                  <a:pt x="145" y="284"/>
                  <a:pt x="175" y="344"/>
                  <a:pt x="210" y="379"/>
                </a:cubicBezTo>
                <a:cubicBezTo>
                  <a:pt x="212" y="386"/>
                  <a:pt x="214" y="393"/>
                  <a:pt x="217" y="400"/>
                </a:cubicBezTo>
                <a:cubicBezTo>
                  <a:pt x="221" y="407"/>
                  <a:pt x="228" y="413"/>
                  <a:pt x="231" y="420"/>
                </a:cubicBezTo>
                <a:cubicBezTo>
                  <a:pt x="242" y="447"/>
                  <a:pt x="248" y="470"/>
                  <a:pt x="265" y="495"/>
                </a:cubicBezTo>
                <a:cubicBezTo>
                  <a:pt x="273" y="520"/>
                  <a:pt x="277" y="540"/>
                  <a:pt x="292" y="562"/>
                </a:cubicBezTo>
                <a:cubicBezTo>
                  <a:pt x="307" y="633"/>
                  <a:pt x="286" y="552"/>
                  <a:pt x="312" y="610"/>
                </a:cubicBezTo>
                <a:cubicBezTo>
                  <a:pt x="323" y="634"/>
                  <a:pt x="324" y="654"/>
                  <a:pt x="339" y="678"/>
                </a:cubicBezTo>
                <a:cubicBezTo>
                  <a:pt x="351" y="723"/>
                  <a:pt x="376" y="788"/>
                  <a:pt x="400" y="827"/>
                </a:cubicBezTo>
                <a:cubicBezTo>
                  <a:pt x="409" y="860"/>
                  <a:pt x="415" y="894"/>
                  <a:pt x="434" y="922"/>
                </a:cubicBezTo>
                <a:cubicBezTo>
                  <a:pt x="436" y="915"/>
                  <a:pt x="443" y="908"/>
                  <a:pt x="441" y="901"/>
                </a:cubicBezTo>
                <a:cubicBezTo>
                  <a:pt x="429" y="865"/>
                  <a:pt x="413" y="865"/>
                  <a:pt x="393" y="840"/>
                </a:cubicBezTo>
                <a:cubicBezTo>
                  <a:pt x="350" y="785"/>
                  <a:pt x="385" y="813"/>
                  <a:pt x="346" y="786"/>
                </a:cubicBezTo>
                <a:cubicBezTo>
                  <a:pt x="334" y="750"/>
                  <a:pt x="317" y="720"/>
                  <a:pt x="305" y="684"/>
                </a:cubicBezTo>
                <a:cubicBezTo>
                  <a:pt x="300" y="669"/>
                  <a:pt x="278" y="644"/>
                  <a:pt x="278" y="644"/>
                </a:cubicBezTo>
                <a:cubicBezTo>
                  <a:pt x="255" y="576"/>
                  <a:pt x="233" y="508"/>
                  <a:pt x="210" y="440"/>
                </a:cubicBezTo>
                <a:cubicBezTo>
                  <a:pt x="199" y="407"/>
                  <a:pt x="181" y="403"/>
                  <a:pt x="163" y="379"/>
                </a:cubicBezTo>
                <a:cubicBezTo>
                  <a:pt x="142" y="351"/>
                  <a:pt x="131" y="326"/>
                  <a:pt x="115" y="298"/>
                </a:cubicBezTo>
                <a:cubicBezTo>
                  <a:pt x="107" y="284"/>
                  <a:pt x="88" y="258"/>
                  <a:pt x="88" y="258"/>
                </a:cubicBezTo>
                <a:cubicBezTo>
                  <a:pt x="77" y="221"/>
                  <a:pt x="86" y="248"/>
                  <a:pt x="68" y="197"/>
                </a:cubicBezTo>
                <a:cubicBezTo>
                  <a:pt x="66" y="190"/>
                  <a:pt x="61" y="176"/>
                  <a:pt x="61" y="176"/>
                </a:cubicBezTo>
                <a:cubicBezTo>
                  <a:pt x="65" y="111"/>
                  <a:pt x="70" y="60"/>
                  <a:pt x="88" y="0"/>
                </a:cubicBezTo>
                <a:cubicBezTo>
                  <a:pt x="162" y="4"/>
                  <a:pt x="207" y="3"/>
                  <a:pt x="271" y="20"/>
                </a:cubicBezTo>
                <a:cubicBezTo>
                  <a:pt x="321" y="34"/>
                  <a:pt x="365" y="67"/>
                  <a:pt x="414" y="81"/>
                </a:cubicBezTo>
                <a:cubicBezTo>
                  <a:pt x="433" y="111"/>
                  <a:pt x="457" y="129"/>
                  <a:pt x="468" y="163"/>
                </a:cubicBezTo>
                <a:cubicBezTo>
                  <a:pt x="466" y="201"/>
                  <a:pt x="469" y="240"/>
                  <a:pt x="461" y="278"/>
                </a:cubicBezTo>
                <a:cubicBezTo>
                  <a:pt x="452" y="317"/>
                  <a:pt x="402" y="346"/>
                  <a:pt x="373" y="366"/>
                </a:cubicBezTo>
                <a:cubicBezTo>
                  <a:pt x="337" y="418"/>
                  <a:pt x="241" y="379"/>
                  <a:pt x="183" y="373"/>
                </a:cubicBezTo>
                <a:cubicBezTo>
                  <a:pt x="169" y="368"/>
                  <a:pt x="153" y="364"/>
                  <a:pt x="143" y="352"/>
                </a:cubicBezTo>
                <a:cubicBezTo>
                  <a:pt x="139" y="346"/>
                  <a:pt x="136" y="332"/>
                  <a:pt x="136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4160" y="268200"/>
            <a:ext cx="1376280" cy="1344600"/>
          </a:xfrm>
          <a:custGeom>
            <a:avLst/>
            <a:gdLst/>
            <a:ahLst/>
            <a:rect l="l" t="t" r="r" b="b"/>
            <a:pathLst>
              <a:path w="867" h="847">
                <a:moveTo>
                  <a:pt x="0" y="163"/>
                </a:moveTo>
                <a:cubicBezTo>
                  <a:pt x="31" y="75"/>
                  <a:pt x="148" y="55"/>
                  <a:pt x="217" y="7"/>
                </a:cubicBezTo>
                <a:cubicBezTo>
                  <a:pt x="264" y="10"/>
                  <a:pt x="316" y="0"/>
                  <a:pt x="359" y="21"/>
                </a:cubicBezTo>
                <a:cubicBezTo>
                  <a:pt x="461" y="72"/>
                  <a:pt x="330" y="20"/>
                  <a:pt x="407" y="48"/>
                </a:cubicBezTo>
                <a:cubicBezTo>
                  <a:pt x="418" y="52"/>
                  <a:pt x="430" y="55"/>
                  <a:pt x="441" y="61"/>
                </a:cubicBezTo>
                <a:cubicBezTo>
                  <a:pt x="455" y="69"/>
                  <a:pt x="481" y="89"/>
                  <a:pt x="481" y="89"/>
                </a:cubicBezTo>
                <a:cubicBezTo>
                  <a:pt x="541" y="175"/>
                  <a:pt x="479" y="300"/>
                  <a:pt x="434" y="380"/>
                </a:cubicBezTo>
                <a:cubicBezTo>
                  <a:pt x="414" y="415"/>
                  <a:pt x="409" y="455"/>
                  <a:pt x="386" y="488"/>
                </a:cubicBezTo>
                <a:cubicBezTo>
                  <a:pt x="375" y="526"/>
                  <a:pt x="354" y="571"/>
                  <a:pt x="332" y="604"/>
                </a:cubicBezTo>
                <a:cubicBezTo>
                  <a:pt x="311" y="686"/>
                  <a:pt x="271" y="766"/>
                  <a:pt x="210" y="827"/>
                </a:cubicBezTo>
                <a:cubicBezTo>
                  <a:pt x="208" y="834"/>
                  <a:pt x="196" y="847"/>
                  <a:pt x="203" y="847"/>
                </a:cubicBezTo>
                <a:cubicBezTo>
                  <a:pt x="213" y="847"/>
                  <a:pt x="216" y="832"/>
                  <a:pt x="224" y="827"/>
                </a:cubicBezTo>
                <a:cubicBezTo>
                  <a:pt x="240" y="817"/>
                  <a:pt x="267" y="813"/>
                  <a:pt x="285" y="807"/>
                </a:cubicBezTo>
                <a:cubicBezTo>
                  <a:pt x="306" y="793"/>
                  <a:pt x="322" y="787"/>
                  <a:pt x="346" y="780"/>
                </a:cubicBezTo>
                <a:cubicBezTo>
                  <a:pt x="367" y="765"/>
                  <a:pt x="384" y="763"/>
                  <a:pt x="407" y="753"/>
                </a:cubicBezTo>
                <a:cubicBezTo>
                  <a:pt x="491" y="718"/>
                  <a:pt x="374" y="762"/>
                  <a:pt x="461" y="719"/>
                </a:cubicBezTo>
                <a:cubicBezTo>
                  <a:pt x="517" y="691"/>
                  <a:pt x="607" y="680"/>
                  <a:pt x="664" y="678"/>
                </a:cubicBezTo>
                <a:cubicBezTo>
                  <a:pt x="732" y="676"/>
                  <a:pt x="867" y="671"/>
                  <a:pt x="867" y="6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3:52Z</dcterms:created>
  <dc:creator>Primary School</dc:creator>
  <dc:description/>
  <dc:language>en-US</dc:language>
  <cp:lastModifiedBy>Primary School</cp:lastModifiedBy>
  <dcterms:modified xsi:type="dcterms:W3CDTF">2009-06-10T00:37:45Z</dcterms:modified>
  <cp:revision>2</cp:revision>
  <dc:subject/>
  <dc:title>Slide 1</dc:title>
</cp:coreProperties>
</file>